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5F0-C8D6-4219-825A-4E619BBC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239-5F9D-4706-93A8-48F7322A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544-FEA6-458E-A044-48F3DB02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657-8496-46B7-854F-32321D09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A559-DAA9-44C8-B930-5C4C4063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256A-0F9C-479F-9A31-E9B706CD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0D77-3458-4A2B-8BE6-06FF9649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64A5-AB4F-4F75-A7E1-2D653E31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C97E-9FAE-4AF6-9388-3E96FA93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568C-2EB0-424D-8477-A5ACFEC3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FC7E-408A-4054-972E-12506996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9D2-F1B4-49C6-88EC-3F86DD3F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C2DA-0EC6-422C-9EF4-C09F5020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DFFE-A037-44A9-AED4-479721AA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8039-A57F-4C08-9E19-8701A40F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214C-38F7-470C-B7EC-400B7217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C031-C9EF-4DFD-811D-0A4C7AE3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B4A-3BC1-40EE-AD02-7F0526B2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974-FA35-4699-B2D1-A2105184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A404-B8BC-4A88-95C8-59957132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F12-F39D-4CA2-BE08-6FB6EDF8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007-702A-4B55-8667-0F97D639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062-DB55-4438-B526-2BB5D9C7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8887-CC7A-4BBE-A7C1-95B32D17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D61E-A86C-47EE-9A72-72F3DF4CCE5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F365-AB12-4018-9F93-C26BC2BBE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9F79-CC94-4717-8D87-E6329E0F802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3012-5195-42B3-B610-A878DF874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ulighetene er mang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6149-B9E5-4A4B-85E5-A8A5DF0FDB0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7D0656D-B4FF-4B72-A245-6A48A654D905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andardoppsett for barometer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Høyest /lavest metoden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alanse oppnås ved at man ved noen bord setter paret med lavest parnummer 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Dette er beregnet i tabeller som finnes i den store boken om bevegelser ”Tävlingsledaren” av Hans Olof Hallén med medarbeidere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abeller som følger med dataprogrammer skal settes opp etter denne tabellene i denne boken  (Tabellene i BAR er like gode, men de kan være litt endre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15F-E39D-4B07-959C-5779511428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ED2F1-B3B9-4EEA-B99A-CCACE5E3CEAB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kstra bord ”Blindtarm”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Brukes i Howellturneringer og Serieturner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ette inn ett ekstra bord, og to nye par som sitter rolig. Parene som beveger seg beholder retningen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3809880"/>
          <a:ext cx="6858000" cy="232092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90360"/>
                <a:gridCol w="990720"/>
                <a:gridCol w="990720"/>
                <a:gridCol w="990360"/>
                <a:gridCol w="990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 bords Ho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bords Ho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B + Blindt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0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8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8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9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0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7B5-B4A2-444B-AEA0-C33E9B4F77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2E762-43AE-4403-9F10-71CF97716AD4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ruken av ”blindtarmer”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Ekstra bord kan settes inn ved bord der det ikke er et sittepar. Greit å ty til i barometerturneringer med ferdige plansjer og slipper.             Endring av plansjer og slipper angår kun dette bordet + ekstrabordet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alansen mellom sitteparene og de som beveger seg er go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Det er nødvendig å endre retning i noen runder for å få noe balanse mellom sitteparene. Vi ser at en turnering med mange blindtarmer kan bli en turnering med 3 pulj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De som beveger se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De som sitter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De som sitter Ø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lindtarmene reduserer antall runder i turnering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9 bord uten blindtarmer &gt;&gt;&gt; 17 ru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5 bord pluss 4 blindtarmer &gt;&gt;&gt; 9 ru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Par med høyere startnummer enn NS bord 1 er sittep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2A6-CE78-40A2-ADC6-9F320DAB4F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94450-8B92-43E2-9D74-D693E64A6390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tandardoppsett for Howell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pillene spilles i rekkefølge på alle bord og alle møter all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arter med laveste spillnummer på bor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Antall runder som kan spilles er lik antall flyttep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Antall spill totalt blir da: Spill i runden x Flyttep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pillerne og spillene plasseres slik at dette er mulig.         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(se tabeller hos Hallé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et finnes tabeller med høyest /lavest prinsipp og andre tabeller der spillerne går ”mer enn ett bor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381-B4C1-4BE5-8840-3FE4A57FC1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DD822-266D-4F47-86C4-D138C53BDC33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pesielle Howelloppset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o grupper kan spille de samme spillen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obbel How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To parallelle rekker spiller spillene samtidig og bord med samme nummer bytter spill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nvevd Ho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To rekker spiller med en rundes forskyvning slik at bare noen få bord bytter spill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Redusert Ho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ruke et lavere bordantall med flere blindtarmbord i stedet for full turnering. Blindtarmbord og opprinnelig bord deler spill Turneringen kan også være avbrut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AF6-2B8B-4336-A387-53FA6CB61C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38902-88F1-4879-BCF8-E3879D921C5A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tandardoppsett for Mitchell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urneringen deles i puljer slik at antallet mulige runder i en omgang ikke er mye større enn antallet spilte rund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ores ut i to resultatlister en for NS og en for ØV. Eventuelle puljer summeres sammen dersom de har spilt de samme spill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Ved et likt antall bord så flyttes det to bord etter runde N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Ekstra byttebord slik Hallén beskriver det mellom bord N/2 og og bord (N/2+1) brukes lite ute i verden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E82-6AF9-4945-AD73-F8276DD26A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70542-3101-4188-AD18-1BC77EEFBC9E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pesielle Mitchell oppset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Mitchell med varierende retn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Ringdansmitchell for turnering mellom klub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oforsmitchell for å balansere opp til en resultatliste på en r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Mitchell med mange omgang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Flere puljer (samme deltakere i pulj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 omgangene flyttes rekkene etter et barometeroppsett noe som gir god balanse i sluttresultat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D121-19CB-44E8-8CDD-85C296B61C6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ECD1B-4AAB-497B-B242-873FF8DDDCE2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ne (1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ller flere par på la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spillere spiller sammen i hele turn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ngel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llerne skifter makker etter hver r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430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rie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gruppe, samme spill i r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ow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gruppe ulike spill i r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itch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rekker mø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onrad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nnere mø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437-5B09-43D6-937A-0B4D289BF695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CC51A-09A0-4B00-8F7F-6650971CF68B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ne (2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agserier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esystemet i divisj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etsse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rometerturneringer for p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M for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Åpne turner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mer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rieturnering i klubb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bbturnering over flere kvelder med et fast antall b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ngelturner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vanligste er serieturner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89E-4A26-43E9-84F7-CCEDFA2D0A2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757B5-CDF4-4256-B5D2-C8C9209CB55B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ne 3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How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Alle møter a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pillene flyttes et bord ned og spilles i rekkefølge på bor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n resultatl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onrad (Swiss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pillere som er nært hverandre på resultatlisten møtes. Alle spiller samme spill i r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itch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Turneringsform der spillene leveres et bord ned og spilles i rekkefølge ved bordene (fra 1 &gt;&gt;N)</a:t>
            </a:r>
            <a:br>
              <a:rPr sz="2000"/>
            </a:b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pillerne deles i to  gru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En gruppe f.eks NS sitter rol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Den andre gruppen går til det neste høyere bordet (fra N &gt;&gt;1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0AF-02E2-4FAF-BF41-B01691B55F51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9BA3B-A66D-4770-BAF9-1A4E1B92F4CB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onkurrans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å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st mulig poeng til egen side når resultatene sammenlig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 beregnes s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ekkverdi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tgangsbonu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nus for lillesle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nus for storesle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ekkverdiene gies til det syvende stikket og oppov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for kløver og r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for hjerter og spar og senere stikk i 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 for første trekk i 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dobler trekkverd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 4 dobler trekkverd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gang når meldt trekkverdi inklusive D eller RD er 100 eller 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678-4019-4B6F-951D-84A1A1502CC3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82CE0-EB9F-4357-81D5-1C5459225C4A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Noen turneringsbegrep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ammenligningsgruppe i par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Alle par i gruppen som sitter i samme retning på et sp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atchpoi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2 poeng for alle scorer i samme retning som er dårlig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 poeng for alle like sc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0 poeng for alle bedre sc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MP </a:t>
            </a:r>
            <a:br>
              <a:rPr sz="2400"/>
            </a:b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nternasjonale matchpoi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Forskjellen mellom to scorer avleses i en tab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utler /Datum etc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n gjennomsnittsscore (enten med alle eller uten topp og bunn) som score sammenlignes 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MP across the fiel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ammenligning med alle bord evt. delt på antall sammenlign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DD4-AD35-4B5A-A281-D233DE72F726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D1F49-41AC-4B89-B0A9-8854DA6D92AB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ombinasjonsmul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pps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eri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itchel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onra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oringsmet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IMP  &gt;&gt;&gt; V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atchpoint mellom 2 bord brukes i ”Board a match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Par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lle oppsettsmetoder kan kombineres med matchpoint eller med IMP (som butler eller across the f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ingel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andardoppsettene er serie (og matchpoint), men mye kan forsø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5B3-C779-4B57-BA51-5FC94C789B07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093BB-6335-4BF3-9BD8-EE6021D0485B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Oppsett av serie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ltakeren med det høyeste nummeret sitter alltid på bord 1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 andre deltakerne flytter etter deltakeren med et nummer lavere (deltakeren med nest høyest nummer går etter nr 1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Høyest/lavest metode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I lagturnering og par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Bord 1 (N)    – 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Bord 2 (N-1) – 2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Bord 3 (N-2) – 3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Perfekt bala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Være i samme scoringsgruppe som et hvilket som helst annet par i halvparten av rund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Halvparten hjemmekamper i lagturn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2D3-F833-4F04-BDF5-498B8F68D004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8C6FD-79AC-4B18-9D6F-0E1BC467AE63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andard lagserieoppset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øyest / lavest metode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get som sitter på bord 1 har hjemmekamp i runde 1 til N/2 og bortekamp i resten av rund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dene spilles i rekkefølgen: 1, (n/2+1), 2, (n/2+2), 3, (n/2+3), 4, (n/2+4) …os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te oppsettet gir at alle veksler mellom hjemmekamp og bortek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slik runde er en enkel serie og det er det vanlige i Bridgeturneri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3BA-C4FB-43D7-BC79-2E137B7CBB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17051-EEB7-4163-B5EE-D85EB5FA9DEB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21:50:37Z</dcterms:created>
  <dc:creator>Per Nordland</dc:creator>
  <dc:description/>
  <dc:language>en-US</dc:language>
  <cp:lastModifiedBy>Per Nordland</cp:lastModifiedBy>
  <dcterms:modified xsi:type="dcterms:W3CDTF">2002-06-02T07:46:51Z</dcterms:modified>
  <cp:revision>14</cp:revision>
  <dc:subject/>
  <dc:title>Turneringsformer</dc:title>
</cp:coreProperties>
</file>