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DE8-B399-4252-B40F-FFE1A7BE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47A-794D-4FA8-A0AB-D22979E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5B6-8988-4CF4-B6CB-35CC3D84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CD2-D006-42D3-87F5-E7FE2FE4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F513-C6E2-4E4C-93DE-61511EE5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726A-4526-458B-893D-91B50CE3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84D4-EEF6-4FB9-9647-03673076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0ACE-318D-459C-8D61-466680A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3E1A-C464-47CE-8849-511BD10F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49D2-76F3-496F-A8BD-3E4B71A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9BF2-262A-49C3-90B9-CB75D984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683-44A1-48E8-9FFE-CAA72C7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7C65-6CFC-4985-B133-BDB0BC8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2712-776D-4768-BA68-C1726AC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2783-5265-4B35-A4C9-75F0D85F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A869-6EF4-435E-B258-6D5BBC3D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A69B-E546-4F03-A195-54C714FE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53D-1D58-4FB7-B79A-941C5EB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1BC-AD3F-44F9-B2C8-8347CEB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1E8-D3AF-489B-A9C1-7F4E2DBF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B6B-4C4A-4C68-AD6E-EFC8C442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C3B-E61D-4216-9BBA-E23099D3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69E-90A1-45FB-83B4-6B17CAA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027-2482-4C16-9A04-BD921852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BE2-461E-40AF-AFE2-D7A1790B39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1A8-4456-4D42-9D5F-580B7EE4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31B1-0864-44E9-97E5-3B9482A511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3883-9E11-4E4A-AC20-8AB9DD7EF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m aktuelle turneringsopps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75CB-FF34-4C43-A106-875518DBB7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DA0FE7F-914E-485D-842E-7B7F758F215D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m 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ingelturneringer er ofte barometerturneringer der alle spiller alle spill før spillerne flytter mellom b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ävlingsledaren har Howell og Mitchelloppsett for et stort  antall spiller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n sportslige verdien av slike turneringer er begre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 er sterkt varierende styrke på spillerne innen makkerpa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844-6235-4B9F-BDB8-F955A91B9A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BDE0F-E5B8-4A3A-82E2-4F432DCEF9FB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sprogram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urneringshjæl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nuelt oppsett på fritt grunnla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med Prans Ske.exe i en pulje med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i like puljer inntil 4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Henriksen (excelbas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i grupper for 48-120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enkle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kan gjør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coreslipp i vanlig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DD1-31D0-4285-A970-8A2983433E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CDADB-CE5F-425D-9A2B-395DAF9505FA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orventninger om 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K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oppsett 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uljevise oppsett for inntil 10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oppsett for inntil hundre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re runder på hvert bord (4-1, 2-3) (4-2, 1-3) (4-3, 1-2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Runde 4-5-6 trekkes etter runde 2. Runde 7,8,9 trekkes etter runde 5 (Runde 10,11,12 trekkes etter runde 8) 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Velge antall møter frit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83F-1E90-42AD-B26F-31D414653B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FAEC5-4A6F-49C5-BB76-A9A880D0E6C0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ktuelle oppsett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rieopps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i Tävlingsledaren i en gruppe eller flere grupper (Henriksen for grupper 48-120 spiller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rowns program SINSTA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Mitchelloppse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n rekke sitter rolig de tre andre beveger seg i utak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EB0-AC66-4988-87A2-F1F180F3D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916A-D4FA-49AD-8922-66C61B9EB5F7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4:42:54Z</dcterms:created>
  <dc:creator>Per Nordland</dc:creator>
  <dc:description/>
  <dc:language>en-US</dc:language>
  <cp:lastModifiedBy>Per Nordland</cp:lastModifiedBy>
  <dcterms:modified xsi:type="dcterms:W3CDTF">2002-01-20T22:21:16Z</dcterms:modified>
  <cp:revision>5</cp:revision>
  <dc:subject/>
  <dc:title>Singelturneringer</dc:title>
</cp:coreProperties>
</file>