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AFD-E795-4E47-A325-53B6AEC7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1C1-EF19-45B8-95C7-B7C88EC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A80-1C1C-48D6-9185-36FB43C2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EDE-0801-4F17-BD08-CB7D7F64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BF6-D358-4C30-A9CC-0026BCE4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B716-2167-4AB0-BCEE-3A2F547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79D9-52B6-4F83-BF35-E134561C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BBF0-1C69-4B5D-A1E5-25556B5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AA8A-6979-402E-896B-88FC37D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CBA-78D3-485F-BC7E-C21E06A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4A5-583A-41E4-BA3A-7B211C65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9E7-92F7-46A2-819D-220A3E1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64FA-F65A-4C45-86F1-1A2C10E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43CB-518E-4857-9BE3-4D0BE8B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7248-8103-4381-ABA0-D534DAF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8477-7843-469D-98C5-15CDD646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B120-6885-455E-80B7-4E652DFD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6FE-D1ED-4CCB-A621-B47EC9F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0E6-A18C-4685-9CBB-F2A431E9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0BF-157E-4253-A7D1-38538B7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607-AD28-48B9-9FFA-23BD425B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CC5-4DE6-4312-833D-743C5DB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7FB-272A-438D-907F-36CBDA43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95B-8A6B-40F7-9E6C-1373CA7A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242-445C-4B9D-B00D-972A49AEC1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F12-8E16-4285-8D82-2FD54D29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9E79-48F1-45BE-8FED-961A4AF7D4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464-E825-40A3-A771-288FB74F7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r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r med dataprogramm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4632-D503-4B1A-BD37-D451896ABD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B41464F-A504-42F2-8F54-01D24317B627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e spill må spilles i en sesjon (kan ta en kort pause) for å unngå fri flyt av urettmessig informasj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psett for 4-12 bord (14-46 spill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t brukt er 4 – 7 bord med mindre enn 30 spil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grammene kan bruke Blindta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9B7-57B7-4C73-9024-5866B7BDA7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E9DCA-C9B7-444C-8477-ECDD70E85C19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ometerturnering finnes i alle program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ringer på en dag eller helg  med 2-4 spill pr.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id med forhåndsdublerte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bbturneringer med 8-12 spill pr ru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blering etter at spillet er spilt første gang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7D2-D4F8-4460-B1A6-047E978C25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A2C00-6FDA-456C-9BD2-B94A8B72E0B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onrad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beste møter de beste, kun ett mø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og BK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blerte s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ør bruke minst 3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øte 25-50 % etter reglementet (helst ned mot 25%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olig er 30 runder alltid n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rt med 2-3 runder som er forhåndstruk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s pr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464-532D-4762-A6A1-C6C92BFBD1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EBD3C-EEF9-45CB-8020-9DC4F5920C36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itch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tandard er er to rekker i hver sin ret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oppsett i Tävlingsledaren kan bruk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alanserte” turneringer med 4 eller flere grupper (rekker) som møter hverandre etter Howellprinsipper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8AD-1FEF-41CF-827D-9646B31AB3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DD455-5DBF-4ADD-B442-737131DCA8EF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ndre ”parturnering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utlerscoring av lagkamp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ut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 av egen score mot Butl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= middelscore evt uten høyeste og laveste score(r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regne IMP mot alle andre bord og bruke summ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le total IMP på antall sammenlign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C39-F677-4C6F-AEAE-7D528A9107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CD5B3-A5BD-465F-A1DB-FE9F37628B03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0:11:03Z</dcterms:created>
  <dc:creator>Per Nordland</dc:creator>
  <dc:description/>
  <dc:language>en-US</dc:language>
  <cp:lastModifiedBy>Per Nordland</cp:lastModifiedBy>
  <dcterms:modified xsi:type="dcterms:W3CDTF">2001-09-25T18:21:19Z</dcterms:modified>
  <cp:revision>6</cp:revision>
  <dc:subject/>
  <dc:title>Parturneringer</dc:title>
</cp:coreProperties>
</file>