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94E-B07D-490D-B3DF-50F1F6B5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2C9-2A17-4B21-A329-D4C72F22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411-C5A9-405C-945C-4E11CDA1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5FA-4237-4EFF-BCE2-4E7F725E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9AAB-A8D7-4176-AE2E-24CE973E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B817-77EF-49DD-9579-1372D7C7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C5EF-CD4E-41E9-8CA8-0461230E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0A31-38A8-40BD-BDA9-BB4AB7F0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7E9C-F579-4989-9AB6-A4D02016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7A27-BE2E-4A9C-A7CE-4CCBC09D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261C-EED5-47B0-9512-4EA956E8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08D-F537-4799-91F0-1E67DE13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C7C2-95DE-4B06-804F-DF0674D7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608F-FA74-4B45-8A1A-E297E457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E71F-5A91-4BE6-9AE8-0F56BB94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7697-7CE7-4F97-B7D5-73728E63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231D-6EFC-4303-9E80-28A3BE3C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E80-8127-482A-9D24-DEE27988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D7E-FADA-4493-AA72-25578DE5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E7F-E80E-49C1-B563-9425B4F3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2CD-5A05-49C7-9273-2315B625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6F4-B575-43B0-9EFB-C405200F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A63-C13B-49D4-91FA-F5BA2D62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BC1-ED11-449D-B071-F77DEFF4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. januar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er Nordl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6428-D6BD-4A1C-80E3-A9AF3693B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. januar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er Nordl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741B-129B-40A1-9FC2-F33732EB5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regnskap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ataprogrammer som tilbys i Norg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NBF - 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imes New Roman"/>
              </a:rPr>
              <a:t>Windowsbasert parturnerings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lle utregningsmåter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ontakt med NBF medlemsregis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erieturner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onrad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ie oppsett av turner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enytter standard slip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Lager HTML fil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ridgehuset 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n programserie i Excel 95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ien er basert på behovene i en klu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ll og ser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ordplansjer og slip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til 16 B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abeller, oppsett, lister for forskjellige spillant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ruke datasystem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onfigurere utstyr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kre at printer, program og maskin virker sam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uder bruksanvis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Kunne normalbru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egge inn navn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krive ut plansjer og lister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age slipper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egge ut resultater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Kunne rettingsrutiner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Kjenne noen som kan hjelpe i en vanskelig situasj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orbrukeren blir ”ekspe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 sikkerhetskop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orberedelser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ge inn nav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ge inn giv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ge plansj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krive ut sli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jennomfør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scoring når første bord er ferdi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krive ut og dele ut resultater etter hver ru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orrigere fe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ffentliggjøre sluttresultaten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ett inn svansebord (1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an bare brukes ved et bord der ikke er et par som sit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t svansebord gir 2 ekstra sittep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vansebordet og det andre deler spill i Howell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7960" y="19051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638680" y="2362320"/>
            <a:ext cx="1295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362320"/>
            <a:ext cx="1524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220968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2286000"/>
            <a:ext cx="10666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0552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94520" y="1942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58160" y="327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25516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43760" y="258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31880" y="252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648320"/>
            <a:ext cx="1143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(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4648320"/>
            <a:ext cx="12189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(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920" y="426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19720" y="563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1024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0552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9132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8696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99360" y="44956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426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24480" y="563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3800" y="38088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ksemp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ett inn svansebord (2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ieturneringer der alle spiller samme spill i run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ringene i oppsettet angår bare de to bord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Brow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dre antall bord     +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dre antall sittepar  +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ye slipper og bordkort for 2 bor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llturn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urneringshjælper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ridgehus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to bordene bytter spill i run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lytteanvisningen endres slik at de som skal til en plass der et par sitter fast går til tilsvarende plass på svansebordet, og deretter etter plan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rogrampakk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038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Willy Browns programm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imes New Roman"/>
              </a:rPr>
              <a:t>Samarbeider med Sven Prans slip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ABC-Data sine program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Firkløverdata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Turneringshjælpere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Jan Henriksens programm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Bar , Laserbar, Blekkba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imes New Roman"/>
              </a:rPr>
              <a:t>Serieturneri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a 2 til 60 bord inklusive blindtarm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a 1 til 20 spill pr rund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Matchpoin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Butler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IMP across the field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kriver ut plansjer, slipper på eget format, resultatslipper, stensil HTML filer o.s.v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onrad, Lasermo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radturnering for inntil 80 (110) p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reie trekningsrutin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ssering i neste runde på slipp og resultatlis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atchpoin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utler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MP across the field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kriver ut plansjer, slipper på eget format, resultatslipper, stensil HTML filer o.s.v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Willy Brown’s lagprogram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t enkelt og liketil lagprogram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sett  Serie eller Monr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 eller uten automatisk V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ner kvot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er opp tab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Tips om WB pro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nngå lange filnavn med å legge programmet i mappe C:\BAR eller D:\B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ontroller at programmet virker sammen med printeren. Det styrer selv printerutskriften fra DO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serbar og Lasermon til Laserskriver. Det hender at programmet må kjøres fra DOS for å unngå problemer med urtskriften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ær nøyaktig ved inntasting i programmene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t kan arrangeres f.eks BoforsMitchell eller vanlig Mitchell ved å angi rett antall sittepar og la sitteparene være nummerert fra NS1 og oppov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t skriver ut slipper i et eget formar på slipper i bane. NBF har gått over til perforerte slipper som skrives ut fra WB med Sven Prans program ”Slipper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hjælper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Laget av Thorvald Aagård i Danmark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grampakken er skrevet på dansk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grammene kan lastes ned gratis fra net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gel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hjælper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ne er skrevet i DOS, men er i senere tid omarbeidet for bruk i Window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ed oppsett av turnering legges startposisjoner for alle runder in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te gjør det mulig å arrangere turneringer med andre enn de tradisjonelle flyttemønstre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ngelprogrammet er god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itchell og Howell er OK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rdplansjene inneholder flytteanvisning for hver rund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t skriver ut slipper på vanlig papir som så må kutt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t lager HTML mal og filer for utlegg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eg har for liten erfaring med programmet til å kunne gi en rettferdig beskrivels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ne anbefales for de som skal arrangere singel og spesielle par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Firkløv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indowsbasert parturneringsprogram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llater punching fra flere mask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river ut til tekstfiler m.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ytter NBF sine standardslipp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løpig kun serie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7:21:43Z</dcterms:created>
  <dc:creator>Per Nordland</dc:creator>
  <dc:description/>
  <dc:language>en-US</dc:language>
  <cp:lastModifiedBy>Per Nordland</cp:lastModifiedBy>
  <dcterms:modified xsi:type="dcterms:W3CDTF">2001-01-31T22:26:29Z</dcterms:modified>
  <cp:revision>5</cp:revision>
  <dc:subject/>
  <dc:title>Turneringsregnskap</dc:title>
</cp:coreProperties>
</file>