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DD8-A59F-44A6-879A-0C8862F5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E6E-C56C-4D52-A437-C5FCAB2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662-9F95-4549-B607-170FD189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A1E-2507-4AD4-9D36-1BFCEE8E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C114-DDE9-4BF6-A32D-0D4DDC6F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326-51A5-47B6-B9E0-D33BEC60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65B-F283-41B6-9106-506468D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A28D-6FD8-4F90-908B-35424CF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431-697D-4C16-A5DB-2C64A11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4B5C-5AB1-49FF-808A-05B0939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5EE1-3B53-4E02-8716-D535EA7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5D5-C371-44FA-8AEF-E92DC83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17B9-792C-4DCF-8FD3-F14792E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3014-DEDE-4E8A-AD77-A9BA88D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E0C-2A4B-4D3A-AD56-59855CE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120D-7AFE-4636-9164-365B2932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4551-8264-4354-8DB7-3FBEE09A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CD4-85A4-437B-9143-74494921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445-2143-4F7D-B25D-8D4A084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FB4-1323-4A55-ACB4-CE3B5F1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4C0-F269-4B9B-8CD7-CC2ECF9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FBA-4590-4538-9A69-8477F29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A97-2FDB-4390-8ADD-BEE91B1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7F2-938A-4137-B269-9A529E5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B26-FDE7-4D25-BF1E-58288C15A3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704-CF1F-429C-AFBB-79B0B463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EA63-4522-4EF8-90C0-5D4BB39936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FB31-CF99-461C-84F4-07A660F9F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 med 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g litt om bruken av de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2C3-1EE0-4E08-A8B7-2CC1C80764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424C4D-D173-40CF-9EA3-3B8CF608603D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programmer under Windo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n ha skriverproble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viklet i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Dansk programpakke for DOS/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løver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ndowsbasert for 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xcelbaserte programmer for mindre 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DAA-D509-4AD2-B270-E8AF1F34B5AF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896A4-1296-425D-A779-BA028D144F30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ar , Laserbar,  Filbar, Blekkb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, slipper, resultatslipper, stensil HTML filer o.s.v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Monrad, Lasermon, Film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nradturner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amme service som i barometerturnering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7E7-8900-431C-B0AB-4BF0AEEC8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A1139-93CB-4614-A240-153E108C4966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r opp lagse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beregnes som kvot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ehersker Monrad med 1 eller flere mø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er summen av motstandernes poeng mot and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utoscore av vinnerpo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B5A-DBDB-48D1-A04D-85C745E7A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51EAE-F5FA-4478-B796-4E239B33A021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K 2000 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(Bull-Gulbrandsen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rogrampakke bygget i Microsoft Access som tar sikte på å bli en komplett pakk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arometer, Monrad og frie opp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dlemslister fra NB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sterpoe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coring fra grensesnitt pr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Neuberg’s forme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littet sco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Fullført programpakken vil dekke alle behov innen turneringsregnskap og registrering av MP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7E2-0411-44EF-9C29-A9A75B8CD3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DE919-5933-42FD-A115-780237CFCAA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horvald Aagårds programpakk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S-basert og arbeider under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leksibelt ved at operatøren setter opp alle aktuelle beveg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Lag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lle typer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nge aktuelle scoringsmetod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Sven Pran har utviklet et program for oppsett av singelturneringer i programme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enne gratis programpakken brukes til øvingsoppgavene i dette kurs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CC3-245D-489D-AB32-6850F09910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C21D7-7C2D-416D-9AD6-2ED5C8AFD5C2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ndowsbasert program for Barometerturneri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asting fra flere mas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ode rutiner for korri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D67-738F-4168-92D4-5A9BCFA3E0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9D566-FADE-4978-8CB7-AD05A7CDE25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Jan Henriksen (Bridgehuset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xcelprogrammer som skriver på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ag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Tabellopps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som NBF s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5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6 spill pr ru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owell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2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av slipper og plansj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Opptil 15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 og slipper</a:t>
            </a:r>
            <a:br>
              <a:rPr sz="2000"/>
            </a:b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inge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nntil 48 spille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esialutgave med 48-120 spil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1CE-AAE8-435C-B0A1-543EB77F7AE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304E5-680D-4521-BAE0-E8352574760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9-18T20:10:36Z</dcterms:modified>
  <cp:revision>5</cp:revision>
  <dc:subject/>
  <dc:title>Turneringsregnskap</dc:title>
</cp:coreProperties>
</file>