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1C03C-BE63-485D-B4EB-3370B3667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6AA38-22C4-4FBE-886A-2B9FC016E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CAA67-9524-4CE0-91CF-402E76E1A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1F8FD-C766-49B8-B803-A010E6B52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1FE7D-6D85-46CA-995F-B3D8937AC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A3D00-AE82-488C-87E0-865E0471A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EFF3B-7674-452B-9279-09FE01B1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2D70C-829E-4619-BC39-3C547476A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F0077-EEC2-4F2D-A6BD-4EB5D83D4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A2AE-D288-47AF-A021-5045517B8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BEC86-F9BC-450E-81CA-5513D835A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63FE6-6C5A-4B0B-90A5-B2ECED2A0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ai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L-seminar Tr.heim 3.-5. mai 200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25F8-B9B5-4831-886F-5303FC566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ea typeface="Times New Roman"/>
              </a:rPr>
              <a:t>1. Definisjon av revoke</a:t>
            </a:r>
            <a:r>
              <a:rPr b="0" lang="nb-NO" sz="3200" spc="-1" strike="noStrike">
                <a:solidFill>
                  <a:srgbClr val="990000"/>
                </a:solidFill>
                <a:latin typeface="Times New Roman"/>
              </a:rPr>
              <a:t>:</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ea typeface="Times New Roman"/>
              </a:rPr>
              <a:t>	</a:t>
            </a:r>
            <a:r>
              <a:rPr b="0" lang="nb-NO" sz="3200" spc="-1" strike="noStrike">
                <a:solidFill>
                  <a:srgbClr val="990000"/>
                </a:solidFill>
                <a:latin typeface="Times New Roman"/>
                <a:ea typeface="Times New Roman"/>
              </a:rPr>
              <a:t>En revoke opptrer når en spiller spiller et annet kort en vedkommende skulle gjort i henhold til lovene. Å unnlate å følge farge (§ 44 C) eller å unnlate å følge en spille- eller utspillsstraff man er pålagt, når man har mulighet til dette, innebærer en revoke. </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20774AE-E2CB-4399-8793-C6516F3F82BA}" type="slidenum">
              <a:t>1</a:t>
            </a:fld>
          </a:p>
        </p:txBody>
      </p:sp>
      <p:sp>
        <p:nvSpPr>
          <p:cNvPr id="6" name="PlaceHolder 5"/>
          <p:cNvSpPr>
            <a:spLocks noGrp="1"/>
          </p:cNvSpPr>
          <p:nvPr>
            <p:ph type="dt" idx="1"/>
          </p:nvPr>
        </p:nvSpPr>
        <p:spPr/>
        <p:txBody>
          <a:bodyPr/>
          <a:p>
            <a:fld id="{F0C4AC64-223E-4B53-8F0D-8E2A24C2C4C8}"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9. En revoke i tolvte stikk må korrigeres (etableres ikke) hvis den oppdages før alle kortene legges tilbake i mappen. Informasjon er urettmessig for makkeren hvis revoken ble gjort av an motspiller som spilte andre kort til stikket. Dette medfører en restriksjon: hvis han har et valg må han spille det mest ufordelaktige kortet, så fremt dette ikke er irrasjone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C708317-CFDD-4593-8207-D0A5C3FDD0AC}" type="slidenum">
              <a:t>10</a:t>
            </a:fld>
          </a:p>
        </p:txBody>
      </p:sp>
      <p:sp>
        <p:nvSpPr>
          <p:cNvPr id="6" name="PlaceHolder 5"/>
          <p:cNvSpPr>
            <a:spLocks noGrp="1"/>
          </p:cNvSpPr>
          <p:nvPr>
            <p:ph type="dt" idx="1"/>
          </p:nvPr>
        </p:nvSpPr>
        <p:spPr/>
        <p:txBody>
          <a:bodyPr/>
          <a:p>
            <a:fld id="{12B525C6-E661-4CE6-986A-6C76D7AEBE9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0. Straffen for en revoke kan ikke være større enn det antall stikk den feilende side vant fra og med revokestikket. Hvis den feilende vant revokestikket eller senere vant et stikk med et kort han lovlig kunne spilt i revokestikket er straffen to stikk. I andre tilfelle ett stikk.</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6BDB69C-6E9A-4C87-91A8-FF86722B82AC}" type="slidenum">
              <a:t>11</a:t>
            </a:fld>
          </a:p>
        </p:txBody>
      </p:sp>
      <p:sp>
        <p:nvSpPr>
          <p:cNvPr id="6" name="PlaceHolder 5"/>
          <p:cNvSpPr>
            <a:spLocks noGrp="1"/>
          </p:cNvSpPr>
          <p:nvPr>
            <p:ph type="dt" idx="1"/>
          </p:nvPr>
        </p:nvSpPr>
        <p:spPr/>
        <p:txBody>
          <a:bodyPr/>
          <a:p>
            <a:fld id="{62DD5C70-D5E1-4156-B31E-381E27A19BE6}"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1. Les §64 B, om etablert revoke som ikke er gjenstand for straff. En ser at uttrykket; ”blindemann kan ikke revokere” er feilaktig (se definisjonen i pkt. 1). En slik revoke er ikke straffbar. Hvis et kort som mangler hos blindemann skulle vært spilt for å følge farge, medfører også dette en revok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210A6A6-0B3E-4E80-BA94-021D1A095E51}" type="slidenum">
              <a:t>12</a:t>
            </a:fld>
          </a:p>
        </p:txBody>
      </p:sp>
      <p:sp>
        <p:nvSpPr>
          <p:cNvPr id="6" name="PlaceHolder 5"/>
          <p:cNvSpPr>
            <a:spLocks noGrp="1"/>
          </p:cNvSpPr>
          <p:nvPr>
            <p:ph type="dt" idx="1"/>
          </p:nvPr>
        </p:nvSpPr>
        <p:spPr/>
        <p:txBody>
          <a:bodyPr/>
          <a:p>
            <a:fld id="{11C91BFE-AF53-4ADA-997B-D75840E3F80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12. En side skal aldri kunne tjene på selv å revokere. Det er derfor §64 C finnes. Hvis straffen for en revoke ikke medfører tilstrekkelig kompensasjon for den ikke-feilende side, eller det ikke er noen straff for en revoke hvor den som revokerer tjener ett eller flere stikk, tildeler TL en justert score. Jeg kjenner ikke til noe tilfelle hvor dette måtte bli en kunstig scor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A03B81A-FE8A-4120-A62D-DE1F47776180}" type="slidenum">
              <a:t>13</a:t>
            </a:fld>
          </a:p>
        </p:txBody>
      </p:sp>
      <p:sp>
        <p:nvSpPr>
          <p:cNvPr id="6" name="PlaceHolder 5"/>
          <p:cNvSpPr>
            <a:spLocks noGrp="1"/>
          </p:cNvSpPr>
          <p:nvPr>
            <p:ph type="dt" idx="1"/>
          </p:nvPr>
        </p:nvSpPr>
        <p:spPr/>
        <p:txBody>
          <a:bodyPr/>
          <a:p>
            <a:fld id="{B8B81E77-99E0-4E4E-AB24-7FB22193EAFD}"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3. Kombinert med §81 C6 medfører dette at selv i tilfeller hvor den ikke-feilende side ikke blir klar over revoken, men TL blir det, må en justert score tildeles. </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79E2362-4433-4BB3-B2E9-2359F25E1552}" type="slidenum">
              <a:t>14</a:t>
            </a:fld>
          </a:p>
        </p:txBody>
      </p:sp>
      <p:sp>
        <p:nvSpPr>
          <p:cNvPr id="6" name="PlaceHolder 5"/>
          <p:cNvSpPr>
            <a:spLocks noGrp="1"/>
          </p:cNvSpPr>
          <p:nvPr>
            <p:ph type="dt" idx="1"/>
          </p:nvPr>
        </p:nvSpPr>
        <p:spPr/>
        <p:txBody>
          <a:bodyPr/>
          <a:p>
            <a:fld id="{5C29BBCA-0A17-4E5E-A414-A2F6E1A02AA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4. Denne justerte scoren skal baseres på det antall stikk den ikke-feilende side ville fått hvis revoken ikke hadde opptrådt. Den justerte scoren er rettferdighetsorientert – stikkstraff kommer ikke i betraktning.</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43B40F3-A59E-45E7-9D35-86B823B96DB7}" type="slidenum">
              <a:t>15</a:t>
            </a:fld>
          </a:p>
        </p:txBody>
      </p:sp>
      <p:sp>
        <p:nvSpPr>
          <p:cNvPr id="6" name="PlaceHolder 5"/>
          <p:cNvSpPr>
            <a:spLocks noGrp="1"/>
          </p:cNvSpPr>
          <p:nvPr>
            <p:ph type="dt" idx="1"/>
          </p:nvPr>
        </p:nvSpPr>
        <p:spPr/>
        <p:txBody>
          <a:bodyPr/>
          <a:p>
            <a:fld id="{9114BCCC-A1FC-4A09-965A-27885501C8E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2. I EBL har motspillerne ikke lov til å spørre hverandre om revoke. ”Spørre” må her ikke oppfattes helt konkret: en motspiller kan ikke med vilje henlede oppmerksomheten til en revoke av sin makker, f. eks.  ved å rynke øyenbrynet eller vente med å fortsette spill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5A84CF6-4918-4479-8DC8-DBBC972F7ECE}" type="slidenum">
              <a:t>2</a:t>
            </a:fld>
          </a:p>
        </p:txBody>
      </p:sp>
      <p:sp>
        <p:nvSpPr>
          <p:cNvPr id="6" name="PlaceHolder 5"/>
          <p:cNvSpPr>
            <a:spLocks noGrp="1"/>
          </p:cNvSpPr>
          <p:nvPr>
            <p:ph type="dt" idx="1"/>
          </p:nvPr>
        </p:nvSpPr>
        <p:spPr/>
        <p:txBody>
          <a:bodyPr/>
          <a:p>
            <a:fld id="{84BB7415-208C-45F4-8EA2-B07551F2C58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3. Blindemann kan spørre spillefører (hvis hans rettigheter ikke er begrenset, §43), men ikke motspillerne. Med de angitte begrensninger, kan spillerne spørre hverandr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CD39013-9BBF-4FB8-8788-59BFF56AFC59}" type="slidenum">
              <a:t>3</a:t>
            </a:fld>
          </a:p>
        </p:txBody>
      </p:sp>
      <p:sp>
        <p:nvSpPr>
          <p:cNvPr id="6" name="PlaceHolder 5"/>
          <p:cNvSpPr>
            <a:spLocks noGrp="1"/>
          </p:cNvSpPr>
          <p:nvPr>
            <p:ph type="dt" idx="1"/>
          </p:nvPr>
        </p:nvSpPr>
        <p:spPr/>
        <p:txBody>
          <a:bodyPr/>
          <a:p>
            <a:fld id="{DB28ACE1-6C5E-411D-8987-536A4DDB0D0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Dette skaper et problem når en motspiller spør spillefører om en mulig revoke. Et slikt spørsmål kan vekke makkeren. Når det er klart at dette er meningen, skal det behandles som om makkeren har blitt spurt, men man kan ikke automatisk anta at dett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C73F005-39EB-4D00-AE91-D233707DD37A}" type="slidenum">
              <a:t>4</a:t>
            </a:fld>
          </a:p>
        </p:txBody>
      </p:sp>
      <p:sp>
        <p:nvSpPr>
          <p:cNvPr id="6" name="PlaceHolder 5"/>
          <p:cNvSpPr>
            <a:spLocks noGrp="1"/>
          </p:cNvSpPr>
          <p:nvPr>
            <p:ph type="dt" idx="1"/>
          </p:nvPr>
        </p:nvSpPr>
        <p:spPr/>
        <p:txBody>
          <a:bodyPr/>
          <a:p>
            <a:fld id="{CBE0CB73-D79D-4CD4-B9C3-307B575A12E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4. Hvis et slikt spørsmål fra makkeren er ulovlig og en revoke skjedde, må et lovlig kort spilles (§62) – hvis det gjelder en motspiller blir det tilbaketrukne for et stort straffekort – og straffebestemmelsene for en etablert revoke gjøres gjeldende. Revokestikket antas da å inneholde det først spilte kort av den som revokert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4C31CB8-D8DA-4D36-A1D0-08FCF135EEA4}" type="slidenum">
              <a:t>5</a:t>
            </a:fld>
          </a:p>
        </p:txBody>
      </p:sp>
      <p:sp>
        <p:nvSpPr>
          <p:cNvPr id="6" name="PlaceHolder 5"/>
          <p:cNvSpPr>
            <a:spLocks noGrp="1"/>
          </p:cNvSpPr>
          <p:nvPr>
            <p:ph type="dt" idx="1"/>
          </p:nvPr>
        </p:nvSpPr>
        <p:spPr/>
        <p:txBody>
          <a:bodyPr/>
          <a:p>
            <a:fld id="{36F7EA8C-D89A-4FA2-B382-1AC551F834C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5. Ingen spiller er pålagt å gjøre oppmerk-som på en annen spillers revoke. Men så snart det er gjort oppmerksom på en revoke, skal TL tilkalles. Så lenge revoken kan korrigeres må en spiller gjøre oppmerksom på sin egen revoke hvis han blir klar over d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9DE978C-6F45-4E27-B8E8-59BB48ECDB37}" type="slidenum">
              <a:t>6</a:t>
            </a:fld>
          </a:p>
        </p:txBody>
      </p:sp>
      <p:sp>
        <p:nvSpPr>
          <p:cNvPr id="6" name="PlaceHolder 5"/>
          <p:cNvSpPr>
            <a:spLocks noGrp="1"/>
          </p:cNvSpPr>
          <p:nvPr>
            <p:ph type="dt" idx="1"/>
          </p:nvPr>
        </p:nvSpPr>
        <p:spPr/>
        <p:txBody>
          <a:bodyPr/>
          <a:p>
            <a:fld id="{9861F83F-38B3-466A-9F8B-CDFE5C22E02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6. Det er ingen straff for ytterligere revoke i samme farge av samme spiller. Men en spiller kan ikke med vilje revokere flere gang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BE395370-BB68-4F68-AD17-7188E6D357CF}" type="slidenum">
              <a:t>7</a:t>
            </a:fld>
          </a:p>
        </p:txBody>
      </p:sp>
      <p:sp>
        <p:nvSpPr>
          <p:cNvPr id="6" name="PlaceHolder 5"/>
          <p:cNvSpPr>
            <a:spLocks noGrp="1"/>
          </p:cNvSpPr>
          <p:nvPr>
            <p:ph type="dt" idx="1"/>
          </p:nvPr>
        </p:nvSpPr>
        <p:spPr/>
        <p:txBody>
          <a:bodyPr/>
          <a:p>
            <a:fld id="{FB0EFBC4-693D-4D9F-A776-E290D329741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7. En revoke blir etablert når den feilende side spiller (eller angir et spill) til neste stikk, selv om det dreier seg om et ulovlig spill som må trekkes tilbake. Framsetting/godtak av krav eller avståelse fra den feilende side etablerer også revok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F69E79C-BD7A-4010-97AA-2DDF48492141}" type="slidenum">
              <a:t>8</a:t>
            </a:fld>
          </a:p>
        </p:txBody>
      </p:sp>
      <p:sp>
        <p:nvSpPr>
          <p:cNvPr id="6" name="PlaceHolder 5"/>
          <p:cNvSpPr>
            <a:spLocks noGrp="1"/>
          </p:cNvSpPr>
          <p:nvPr>
            <p:ph type="dt" idx="1"/>
          </p:nvPr>
        </p:nvSpPr>
        <p:spPr/>
        <p:txBody>
          <a:bodyPr/>
          <a:p>
            <a:fld id="{001D9462-8995-4F67-A9C3-F2E67BE86D3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8. Når det gjøres oppmerksom på en ikke-etablert revoke, skal den korrigeres. Kort spilt etter revoken (i rotasjon) av den ikke-feilende side kan trekkes tilbake. Hvis det skjer, og også den feilende side spilte, kan også dette kortet trekkes til-bake, men blir et stort straffekort hvis den feilende er motspiller.</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2CC3477-C93D-412B-899A-BF6927468B0F}" type="slidenum">
              <a:t>9</a:t>
            </a:fld>
          </a:p>
        </p:txBody>
      </p:sp>
      <p:sp>
        <p:nvSpPr>
          <p:cNvPr id="6" name="PlaceHolder 5"/>
          <p:cNvSpPr>
            <a:spLocks noGrp="1"/>
          </p:cNvSpPr>
          <p:nvPr>
            <p:ph type="dt" idx="1"/>
          </p:nvPr>
        </p:nvSpPr>
        <p:spPr/>
        <p:txBody>
          <a:bodyPr/>
          <a:p>
            <a:fld id="{6C8F25A2-15A9-41C0-91A3-44D63F40DF0F}"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0:06:39Z</dcterms:created>
  <dc:creator>Harald Skjæran</dc:creator>
  <dc:description/>
  <dc:language>en-US</dc:language>
  <cp:lastModifiedBy>Per Nordland</cp:lastModifiedBy>
  <dcterms:modified xsi:type="dcterms:W3CDTF">2002-05-03T14:20:30Z</dcterms:modified>
  <cp:revision>7</cp:revision>
  <dc:subject/>
  <dc:title>Meldinger utenfor tur</dc:title>
</cp:coreProperties>
</file>