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1"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4"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9"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0"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4"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9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9"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3"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7"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996840" y="615960"/>
            <a:ext cx="7150320" cy="11304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lick to edit the title text format</a:t>
            </a:r>
            <a:endParaRPr b="1" i="1" lang="en-US" sz="2800" spc="-1" strike="noStrike">
              <a:solidFill>
                <a:srgbClr val="000000"/>
              </a:solidFill>
              <a:latin typeface="Arial"/>
            </a:endParaRPr>
          </a:p>
        </p:txBody>
      </p:sp>
      <p:sp>
        <p:nvSpPr>
          <p:cNvPr id="2"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85840" indent="-285840">
              <a:lnSpc>
                <a:spcPct val="90000"/>
              </a:lnSpc>
              <a:spcBef>
                <a:spcPts val="901"/>
              </a:spcBef>
              <a:spcAft>
                <a:spcPts val="601"/>
              </a:spcAft>
              <a:buClr>
                <a:srgbClr val="000000"/>
              </a:buClr>
              <a:buFont typeface="Arial"/>
              <a:buChar char=" "/>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85840" indent="-285840">
              <a:lnSpc>
                <a:spcPct val="90000"/>
              </a:lnSpc>
              <a:spcBef>
                <a:spcPts val="901"/>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85840" indent="-285840">
              <a:lnSpc>
                <a:spcPct val="90000"/>
              </a:lnSpc>
              <a:spcBef>
                <a:spcPts val="901"/>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85840" indent="-285840">
              <a:lnSpc>
                <a:spcPct val="90000"/>
              </a:lnSpc>
              <a:spcBef>
                <a:spcPts val="901"/>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85840" indent="-285840">
              <a:lnSpc>
                <a:spcPct val="90000"/>
              </a:lnSpc>
              <a:spcBef>
                <a:spcPts val="901"/>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85840" indent="-285840">
              <a:lnSpc>
                <a:spcPct val="90000"/>
              </a:lnSpc>
              <a:spcBef>
                <a:spcPts val="901"/>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463680" y="11430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463680" y="6629400"/>
            <a:ext cx="821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68680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159760" y="11430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543800" y="6553080"/>
            <a:ext cx="13701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BF 1998</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1. SPILLET BEGYNNER</a:t>
            </a:r>
            <a:endParaRPr b="1" i="1" lang="en-US" sz="2800" spc="-1" strike="noStrike">
              <a:solidFill>
                <a:srgbClr val="000000"/>
              </a:solidFill>
              <a:latin typeface="Arial"/>
            </a:endParaRPr>
          </a:p>
        </p:txBody>
      </p:sp>
      <p:sp>
        <p:nvSpPr>
          <p:cNvPr id="4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6000"/>
          </a:bodyPr>
          <a:p>
            <a:pPr marL="27432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ÅPNINGSUTSPILLET LEGGES MED FREMSIDEN NED</a:t>
            </a:r>
            <a:endParaRPr b="1" lang="en-US" sz="2400" spc="-1" strike="noStrike">
              <a:solidFill>
                <a:srgbClr val="000000"/>
              </a:solidFill>
              <a:latin typeface="Arial"/>
            </a:endParaRPr>
          </a:p>
          <a:p>
            <a:pPr lvl="1" marL="658080" indent="-21924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et bud, en dobling eller redobling er blitt fulgt av tre passer i rett tur, legger motspilleren på den antatte spilleførers venstre side ned sit åpningsutspill med fremsiden ned*. Et åpningsutspill som ligger med fremsiden ned, kan trekkes tilbake bare etter instruks fra turneringslederen** etter at det har skjedd en uregelmessighet (se §47E2). Et kort som trekkes tilbake på denne måten, må settes tilbake på motspillerens hånd.</a:t>
            </a:r>
            <a:endParaRPr b="1" lang="en-US" sz="1800" spc="-1" strike="noStrike">
              <a:solidFill>
                <a:srgbClr val="000000"/>
              </a:solidFill>
              <a:latin typeface="Arial"/>
            </a:endParaRPr>
          </a:p>
          <a:p>
            <a:pPr lvl="1" marL="658080" indent="-21924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Ansvarlig organisasjon kan bestemme at åpningsutspillet skal legges med fremsiden opp. (NBF har bestemt at i Norge skal åpningsutspillet legges med fremsiden ned.)</a:t>
            </a:r>
            <a:endParaRPr b="1" lang="en-US" sz="1400" spc="-1" strike="noStrike">
              <a:solidFill>
                <a:srgbClr val="000000"/>
              </a:solidFill>
              <a:latin typeface="Arial"/>
            </a:endParaRPr>
          </a:p>
          <a:p>
            <a:pPr lvl="1" marL="658080" indent="-21924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BF har bestemt at i Norge kan et åpningsutspill fra feil motstander, og som er lagt med fremsiden ned, settes tilbake på hånden uten å tilkalle turneringsleder og uten straff.</a:t>
            </a:r>
            <a:endParaRPr b="1"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4. SPILLETS AVVIKLING</a:t>
            </a:r>
            <a:endParaRPr b="1" i="1" lang="en-US" sz="2800" spc="-1" strike="noStrike">
              <a:solidFill>
                <a:srgbClr val="000000"/>
              </a:solidFill>
              <a:latin typeface="Arial"/>
            </a:endParaRPr>
          </a:p>
        </p:txBody>
      </p:sp>
      <p:sp>
        <p:nvSpPr>
          <p:cNvPr id="6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4000"/>
          </a:bodyPr>
          <a:p>
            <a:pPr marL="26856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TSPILL TIL ET STIKK</a:t>
            </a:r>
            <a:endParaRPr b="1" lang="en-US" sz="2400" spc="-1" strike="noStrike">
              <a:solidFill>
                <a:srgbClr val="000000"/>
              </a:solidFill>
              <a:latin typeface="Arial"/>
            </a:endParaRPr>
          </a:p>
          <a:p>
            <a:pPr lvl="1" marL="644400" indent="-214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har utspillet til et stikk, kan spille ut et hvilket som helst kort fra sin hånd </a:t>
            </a:r>
            <a:r>
              <a:rPr b="0" i="1" lang="nb-NO" sz="1800" spc="-1" strike="noStrike">
                <a:solidFill>
                  <a:srgbClr val="000000"/>
                </a:solidFill>
                <a:latin typeface="Arial"/>
              </a:rPr>
              <a:t>(med mindre spilleren er pålagt utspillsbegrensning etter en uregelmessighet begått av hans side)</a:t>
            </a:r>
            <a:r>
              <a:rPr b="1" lang="nb-NO" sz="1800" spc="-1" strike="noStrike">
                <a:solidFill>
                  <a:srgbClr val="000000"/>
                </a:solidFill>
                <a:latin typeface="Arial"/>
              </a:rPr>
              <a:t>.</a:t>
            </a:r>
            <a:endParaRPr b="1" lang="en-US" sz="1800" spc="-1" strike="noStrike">
              <a:solidFill>
                <a:srgbClr val="000000"/>
              </a:solidFill>
              <a:latin typeface="Arial"/>
            </a:endParaRPr>
          </a:p>
          <a:p>
            <a:pPr marL="26856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PÅFØLGENDE SPILL TIL STIKKET</a:t>
            </a:r>
            <a:endParaRPr b="1" lang="en-US" sz="2400" spc="-1" strike="noStrike">
              <a:solidFill>
                <a:srgbClr val="000000"/>
              </a:solidFill>
              <a:latin typeface="Arial"/>
            </a:endParaRPr>
          </a:p>
          <a:p>
            <a:pPr lvl="1" marL="644400" indent="-214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utspillet spiller hver av de andre et kort i tur og orden, og de fire kortene som er spilt på denne måten, utgjør et stikk. </a:t>
            </a:r>
            <a:r>
              <a:rPr b="0" i="1" lang="nb-NO" sz="1800" spc="-1" strike="noStrike">
                <a:solidFill>
                  <a:srgbClr val="000000"/>
                </a:solidFill>
                <a:latin typeface="Arial"/>
              </a:rPr>
              <a:t>(Når det gjelder metoden å spille kortene og ordne stikkene på - se §65.)</a:t>
            </a:r>
            <a:endParaRPr b="1" lang="en-US" sz="1800" spc="-1" strike="noStrike">
              <a:solidFill>
                <a:srgbClr val="000000"/>
              </a:solidFill>
              <a:latin typeface="Arial"/>
            </a:endParaRPr>
          </a:p>
          <a:p>
            <a:pPr marL="26856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DET MÅ FØLGES FARGE</a:t>
            </a:r>
            <a:endParaRPr b="1" lang="en-US" sz="2400" spc="-1" strike="noStrike">
              <a:solidFill>
                <a:srgbClr val="000000"/>
              </a:solidFill>
              <a:latin typeface="Arial"/>
            </a:endParaRPr>
          </a:p>
          <a:p>
            <a:pPr lvl="1" marL="644400" indent="-214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spilles til et stikk, må enhver spiller følge farge såfremt det er mulig. Dette er en plikt som går foran alle andre krav i lovene.</a:t>
            </a: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4. SPILLETS AVVIKLING</a:t>
            </a:r>
            <a:endParaRPr b="1" i="1" lang="en-US" sz="2800" spc="-1" strike="noStrike">
              <a:solidFill>
                <a:srgbClr val="000000"/>
              </a:solidFill>
              <a:latin typeface="Arial"/>
            </a:endParaRPr>
          </a:p>
        </p:txBody>
      </p:sp>
      <p:sp>
        <p:nvSpPr>
          <p:cNvPr id="66" name="PlaceHolder 2"/>
          <p:cNvSpPr>
            <a:spLocks noGrp="1"/>
          </p:cNvSpPr>
          <p:nvPr>
            <p:ph/>
          </p:nvPr>
        </p:nvSpPr>
        <p:spPr>
          <a:xfrm>
            <a:off x="914040" y="1981080"/>
            <a:ext cx="716292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NÅR MAN IKKE KAN FØLGE FARGE</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ikke er i stand til å følge farge, kan denne spille et hvilket som helst kort </a:t>
            </a:r>
            <a:r>
              <a:rPr b="0" i="1" lang="nb-NO" sz="1800" spc="-1" strike="noStrike">
                <a:solidFill>
                  <a:srgbClr val="000000"/>
                </a:solidFill>
                <a:latin typeface="Arial"/>
              </a:rPr>
              <a:t>(med mindre spilleren er pålagt en begrensning etter en uregelmessighet begått av hans si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TIKK SOM INNEHOLDER TRUMF</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tikk som inneholder trumf, vinnes av den spiller som har spilt den høyeste trumf.</a:t>
            </a:r>
            <a:endParaRPr b="1" lang="en-US" sz="1800" spc="-1" strike="noStrike">
              <a:solidFill>
                <a:srgbClr val="000000"/>
              </a:solidFill>
              <a:latin typeface="Arial"/>
            </a:endParaRPr>
          </a:p>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STIKK SOM IKKE INNEHOLDER TRUMF</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tikk som ikke inneholder trumf, vinnes av den spiller som har spilt det høyeste kort i den utspilte farge.</a:t>
            </a:r>
            <a:endParaRPr b="1"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4. SPILLETS AVVIKLING</a:t>
            </a:r>
            <a:endParaRPr b="1" i="1" lang="en-US" sz="2800" spc="-1" strike="noStrike">
              <a:solidFill>
                <a:srgbClr val="000000"/>
              </a:solidFill>
              <a:latin typeface="Arial"/>
            </a:endParaRPr>
          </a:p>
        </p:txBody>
      </p:sp>
      <p:sp>
        <p:nvSpPr>
          <p:cNvPr id="6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 UTSPILL TIL DE ØVRIGE STIKK ETTER DET FØRSTE</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spiller som har vunnet et stikk, spiller ut til neste stikk.</a:t>
            </a:r>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5. SPILL AV KORTENE</a:t>
            </a:r>
            <a:endParaRPr b="1" i="1" lang="en-US" sz="2800" spc="-1" strike="noStrike">
              <a:solidFill>
                <a:srgbClr val="000000"/>
              </a:solidFill>
              <a:latin typeface="Arial"/>
            </a:endParaRPr>
          </a:p>
        </p:txBody>
      </p:sp>
      <p:sp>
        <p:nvSpPr>
          <p:cNvPr id="7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 AV KORT FRA EN HÅND</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av spillerne unntatt blindemann spiller et kort ved å ta det ut av hånden og legge det på bordet rett foran seg med fremsiden opp*.</a:t>
            </a:r>
            <a:endParaRPr b="1" lang="en-US" sz="1800" spc="-1" strike="noStrike">
              <a:solidFill>
                <a:srgbClr val="000000"/>
              </a:solidFill>
              <a:latin typeface="Arial"/>
            </a:endParaRPr>
          </a:p>
          <a:p>
            <a:pPr lvl="1" marL="685800" indent="-22860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Åpningsutspillet blir først lagt med fremsiden ned.</a:t>
            </a:r>
            <a:endParaRPr b="1" lang="en-US" sz="1400" spc="-1" strike="noStrike">
              <a:solidFill>
                <a:srgbClr val="000000"/>
              </a:solidFill>
              <a:latin typeface="Arial"/>
            </a:endParaRPr>
          </a:p>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PILL FRA BLINDEMANN</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føreren spiller et kort fra blindemann ved å angi kortet muntlig, og deretter plukker blindemann kortet opp og legger det på bordet med fremsiden opp. Om nødvendig kan spilleføreren selv plukke opp det ønskede kort. </a:t>
            </a:r>
            <a:r>
              <a:rPr b="0" i="1" lang="nb-NO" sz="1800" spc="-1" strike="noStrike">
                <a:solidFill>
                  <a:srgbClr val="000000"/>
                </a:solidFill>
                <a:latin typeface="Arial"/>
              </a:rPr>
              <a:t>(I blindemanns fravær kan spillefører be en av motstanderne eller en bakspiller om assistanse.)</a:t>
            </a:r>
            <a:endParaRPr b="1"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5. SPILL AV KORTENE</a:t>
            </a:r>
            <a:endParaRPr b="1" i="1" lang="en-US" sz="2800" spc="-1" strike="noStrike">
              <a:solidFill>
                <a:srgbClr val="000000"/>
              </a:solidFill>
              <a:latin typeface="Arial"/>
            </a:endParaRPr>
          </a:p>
        </p:txBody>
      </p:sp>
      <p:sp>
        <p:nvSpPr>
          <p:cNvPr id="72" name="PlaceHolder 2"/>
          <p:cNvSpPr>
            <a:spLocks noGrp="1"/>
          </p:cNvSpPr>
          <p:nvPr>
            <p:ph/>
          </p:nvPr>
        </p:nvSpPr>
        <p:spPr>
          <a:xfrm>
            <a:off x="990720" y="1828800"/>
            <a:ext cx="7162560" cy="4114800"/>
          </a:xfrm>
          <a:prstGeom prst="rect">
            <a:avLst/>
          </a:prstGeom>
          <a:noFill/>
          <a:ln w="0">
            <a:noFill/>
          </a:ln>
        </p:spPr>
        <p:txBody>
          <a:bodyPr lIns="90360" rIns="90360" tIns="44280" bIns="44280" anchor="t">
            <a:normAutofit fontScale="91000"/>
          </a:bodyPr>
          <a:p>
            <a:pPr marL="25992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VUNGENT SPILL AV KORT</a:t>
            </a:r>
            <a:endParaRPr b="1" lang="en-US" sz="2400" spc="-1" strike="noStrike">
              <a:solidFill>
                <a:srgbClr val="000000"/>
              </a:solidFill>
              <a:latin typeface="Arial"/>
            </a:endParaRPr>
          </a:p>
          <a:p>
            <a:pPr lvl="1" marL="623880" indent="-2077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 MOTSPILLERS KORT</a:t>
            </a:r>
            <a:endParaRPr b="1" lang="en-US" sz="1800" spc="-1" strike="noStrike">
              <a:solidFill>
                <a:srgbClr val="000000"/>
              </a:solidFill>
              <a:latin typeface="Arial"/>
            </a:endParaRPr>
          </a:p>
          <a:p>
            <a:pPr lvl="1" marL="623880" indent="-2077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motspiller har holdt et kort slik at det er mulig for hans makker å se fremsiden på det, må kortet spilles til det aktuelle stikk </a:t>
            </a:r>
            <a:r>
              <a:rPr b="0" i="1" lang="nb-NO" sz="1800" spc="-1" strike="noStrike">
                <a:solidFill>
                  <a:srgbClr val="000000"/>
                </a:solidFill>
                <a:latin typeface="Arial"/>
              </a:rPr>
              <a:t>(hvis motspilleren allerede har spilt et lovlig kort til det aktuelle stikk - se §45E)</a:t>
            </a:r>
            <a:r>
              <a:rPr b="0" lang="nb-NO" sz="1800" spc="-1" strike="noStrike">
                <a:solidFill>
                  <a:srgbClr val="000000"/>
                </a:solidFill>
                <a:latin typeface="Arial"/>
              </a:rPr>
              <a:t>.</a:t>
            </a:r>
            <a:endParaRPr b="1" lang="en-US" sz="1800" spc="-1" strike="noStrike">
              <a:solidFill>
                <a:srgbClr val="000000"/>
              </a:solidFill>
              <a:latin typeface="Arial"/>
            </a:endParaRPr>
          </a:p>
          <a:p>
            <a:pPr lvl="1" marL="623880" indent="-2077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TT AV SPILLEFØRERENS KORT</a:t>
            </a:r>
            <a:endParaRPr b="1" lang="en-US" sz="1800" spc="-1" strike="noStrike">
              <a:solidFill>
                <a:srgbClr val="000000"/>
              </a:solidFill>
              <a:latin typeface="Arial"/>
            </a:endParaRPr>
          </a:p>
          <a:p>
            <a:pPr lvl="1" marL="623880" indent="-2077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må spille et kort fra sin hånd hvis det er holdt med fremsiden opp, har berørt eller nesten berørt bordet, eller er holdt i en stilling som tyder på at det er blitt spilt.</a:t>
            </a:r>
            <a:endParaRPr b="1" lang="en-US" sz="1800" spc="-1" strike="noStrike">
              <a:solidFill>
                <a:srgbClr val="000000"/>
              </a:solidFill>
              <a:latin typeface="Arial"/>
            </a:endParaRPr>
          </a:p>
          <a:p>
            <a:pPr lvl="1" marL="623880" indent="-2077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ETT AV BLINDEMANNS KORT</a:t>
            </a:r>
            <a:endParaRPr b="1" lang="en-US" sz="1800" spc="-1" strike="noStrike">
              <a:solidFill>
                <a:srgbClr val="000000"/>
              </a:solidFill>
              <a:latin typeface="Arial"/>
            </a:endParaRPr>
          </a:p>
          <a:p>
            <a:pPr lvl="1" marL="623880" indent="-2077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kort hos blindemann må spilles hvis spilleføreren med overlegg har berørt det - unntatt når det skjer for å ordne blindemanns kort, eller for å få tak i et kort som ligger over eller under et berørt kort.</a:t>
            </a: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5. SPILL AV KORTENE</a:t>
            </a:r>
            <a:endParaRPr b="1" i="1" lang="en-US" sz="2800" spc="-1" strike="noStrike">
              <a:solidFill>
                <a:srgbClr val="000000"/>
              </a:solidFill>
              <a:latin typeface="Arial"/>
            </a:endParaRPr>
          </a:p>
        </p:txBody>
      </p:sp>
      <p:sp>
        <p:nvSpPr>
          <p:cNvPr id="7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7000"/>
          </a:bodyPr>
          <a:p>
            <a:pPr lvl="1" marL="664920" indent="-221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NEVNT ELLER ANGITT KORT</a:t>
            </a:r>
            <a:endParaRPr b="1" lang="en-US" sz="1800" spc="-1" strike="noStrike">
              <a:solidFill>
                <a:srgbClr val="000000"/>
              </a:solidFill>
              <a:latin typeface="Arial"/>
            </a:endParaRPr>
          </a:p>
          <a:p>
            <a:pPr lvl="1" marL="664920" indent="-221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 AV ANGITT KORT</a:t>
            </a:r>
            <a:endParaRPr b="1" lang="en-US" sz="1800" spc="-1" strike="noStrike">
              <a:solidFill>
                <a:srgbClr val="000000"/>
              </a:solidFill>
              <a:latin typeface="Arial"/>
            </a:endParaRPr>
          </a:p>
          <a:p>
            <a:pPr lvl="1" marL="664920" indent="-221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kort må spilles dersom en spiller nevner det eller på annen måte angir at han har tenkt å spille det.</a:t>
            </a:r>
            <a:endParaRPr b="1" lang="en-US" sz="1800" spc="-1" strike="noStrike">
              <a:solidFill>
                <a:srgbClr val="000000"/>
              </a:solidFill>
              <a:latin typeface="Arial"/>
            </a:endParaRPr>
          </a:p>
          <a:p>
            <a:pPr lvl="1" marL="664920" indent="-221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KORRIGERING AV KORT SOM ER ANGITT AV VANVARE</a:t>
            </a:r>
            <a:endParaRPr b="1" lang="en-US" sz="1800" spc="-1" strike="noStrike">
              <a:solidFill>
                <a:srgbClr val="000000"/>
              </a:solidFill>
              <a:latin typeface="Arial"/>
            </a:endParaRPr>
          </a:p>
          <a:p>
            <a:pPr lvl="1" marL="664920" indent="-221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uten straff forandre et spill som er angitt av vanvare, dersom det gjøres uten opphold for ettertanke. Men hvis en motstander i sin tur har spilt et lovlig kort før angivelsen ble endret, kan dette uten straff trekke tilbake kortet som ble spilt på denne måten, og erstatte det med et annet kort (se §47).</a:t>
            </a:r>
            <a:endParaRPr b="1" lang="en-US" sz="1800" spc="-1" strike="noStrike">
              <a:solidFill>
                <a:srgbClr val="000000"/>
              </a:solidFill>
              <a:latin typeface="Arial"/>
            </a:endParaRPr>
          </a:p>
          <a:p>
            <a:pPr lvl="1" marL="664920" indent="-221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STRAFFEKORT</a:t>
            </a:r>
            <a:endParaRPr b="1" lang="en-US" sz="1800" spc="-1" strike="noStrike">
              <a:solidFill>
                <a:srgbClr val="000000"/>
              </a:solidFill>
              <a:latin typeface="Arial"/>
            </a:endParaRPr>
          </a:p>
          <a:p>
            <a:pPr lvl="1" marL="664920" indent="-221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stort eller lite straffekort kan måtte spilles ifølge §50.</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5. SPILL AV KORTENE</a:t>
            </a:r>
            <a:endParaRPr b="1" i="1" lang="en-US" sz="2800" spc="-1" strike="noStrike">
              <a:solidFill>
                <a:srgbClr val="000000"/>
              </a:solidFill>
              <a:latin typeface="Arial"/>
            </a:endParaRPr>
          </a:p>
        </p:txBody>
      </p:sp>
      <p:sp>
        <p:nvSpPr>
          <p:cNvPr id="7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KORT SOM ER FEILSPILT AV BLINDEMANN</a:t>
            </a:r>
            <a:br>
              <a:rPr sz="2400"/>
            </a:br>
            <a:br>
              <a:rPr sz="2400"/>
            </a:br>
            <a:r>
              <a:rPr b="1" lang="nb-NO" sz="1800" spc="-1" strike="noStrike">
                <a:solidFill>
                  <a:srgbClr val="000000"/>
                </a:solidFill>
                <a:latin typeface="Arial"/>
              </a:rPr>
              <a:t>Hvis blindemann plasserer et kort i spilt posisjon uten at det er nevnt av spilleføreren, må kortet trekkes tilbake hvis dette blir påpekt før begge sidene har spilt til neste stikk, og en motspiller kan uten straff trekke tilbake et kort som er spilt etter at feilen ble begått, men før den ble påpekt. Dersom HM forandrer sitt spill, kan også spillefører trekke tilbake kortet han spilte til stikket (se §16C2).</a:t>
            </a:r>
            <a:endParaRPr b="1"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5. SPILL AV KORTENE</a:t>
            </a:r>
            <a:endParaRPr b="1" i="1" lang="en-US" sz="2800" spc="-1" strike="noStrike">
              <a:solidFill>
                <a:srgbClr val="000000"/>
              </a:solidFill>
              <a:latin typeface="Arial"/>
            </a:endParaRPr>
          </a:p>
        </p:txBody>
      </p:sp>
      <p:sp>
        <p:nvSpPr>
          <p:cNvPr id="7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FEM KORT I ETT STIKK</a:t>
            </a:r>
            <a:endParaRPr b="1" lang="en-US" sz="2400" spc="-1" strike="noStrike">
              <a:solidFill>
                <a:srgbClr val="000000"/>
              </a:solidFill>
              <a:latin typeface="Arial"/>
            </a:endParaRPr>
          </a:p>
          <a:p>
            <a:pPr lvl="1" marL="671760" indent="-2239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FEMTE KORT SPILT AV EN MOTSPILLER</a:t>
            </a:r>
            <a:endParaRPr b="1" lang="en-US" sz="1800" spc="-1" strike="noStrike">
              <a:solidFill>
                <a:srgbClr val="000000"/>
              </a:solidFill>
              <a:latin typeface="Arial"/>
            </a:endParaRPr>
          </a:p>
          <a:p>
            <a:pPr lvl="1" marL="671760" indent="-2239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spiller et femte kort til et stikk, blir det straffekort ifølge §50, med mindre turneringslederen dømmer kortet som utspill, og i så fall kommer §53 eller §56 til anvendelse.</a:t>
            </a:r>
            <a:endParaRPr b="1" lang="en-US" sz="1800" spc="-1" strike="noStrike">
              <a:solidFill>
                <a:srgbClr val="000000"/>
              </a:solidFill>
              <a:latin typeface="Arial"/>
            </a:endParaRPr>
          </a:p>
          <a:p>
            <a:pPr lvl="1" marL="671760" indent="-2239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FEMTE KORT SPILT AV SPILLEFØRER</a:t>
            </a:r>
            <a:endParaRPr b="1" lang="en-US" sz="1800" spc="-1" strike="noStrike">
              <a:solidFill>
                <a:srgbClr val="000000"/>
              </a:solidFill>
              <a:latin typeface="Arial"/>
            </a:endParaRPr>
          </a:p>
          <a:p>
            <a:pPr lvl="1" marL="671760" indent="-2239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en spiller et femte kort til et stikk fra sin egen hånd eller blindemann, blir det ingen straff, med mindre turneringslederen dømmer kortet som utspilt, og i så fall kommer §55 til anvendelse**.</a:t>
            </a:r>
            <a:endParaRPr b="1" lang="en-US" sz="1800" spc="-1" strike="noStrike">
              <a:solidFill>
                <a:srgbClr val="000000"/>
              </a:solidFill>
              <a:latin typeface="Arial"/>
            </a:endParaRPr>
          </a:p>
          <a:p>
            <a:pPr lvl="1" marL="671760" indent="-22392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5A: Hvis spilleføreren har spilt ut utenfor tur fra sin egen eller blindemanns hånd, kan hver av motspillerne godta utspillet som beskrevet i §53, eller kreve at det blir trukket tilbake.</a:t>
            </a:r>
            <a:endParaRPr b="1"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5. SPILL AV KORTENE</a:t>
            </a:r>
            <a:endParaRPr b="1" i="1" lang="en-US" sz="2800" spc="-1" strike="noStrike">
              <a:solidFill>
                <a:srgbClr val="000000"/>
              </a:solidFill>
              <a:latin typeface="Arial"/>
            </a:endParaRPr>
          </a:p>
        </p:txBody>
      </p:sp>
      <p:sp>
        <p:nvSpPr>
          <p:cNvPr id="8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BLINDEMANN ANGIR KORT</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blindemanns hånd er lagt med fremsiden opp, kan blindemann ikke berøre eller angi noe som helst kort (unntatt for å ordne kortene) uten etter instruks fra spilleføreren. Hvis blindemann gjør noe slikt, skal TL tilkalles med en gang. TL skal avgjøre om blindemanns handling faktisk var et forslag til spilleføreren. Dersom TL dømmer at det var slik, skal spillet fortsette og TL skal reservere seg rett til å fastsette et justert resultat hvis motspillerne blir påført skade ved det foreslåtte spill.</a:t>
            </a:r>
            <a:endParaRPr b="1" lang="en-US" sz="1800" spc="-1" strike="noStrike">
              <a:solidFill>
                <a:srgbClr val="000000"/>
              </a:solidFill>
              <a:latin typeface="Arial"/>
            </a:endParaRPr>
          </a:p>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 SNUING AV KORTENE</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ngen av spillerne bør snu sitt kort med fremsiden ned før alle fire spillere har spilt til stikket.</a:t>
            </a:r>
            <a:endParaRPr b="1"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6. UFULLSTENDIG ELLER FEILAKTIG ANGIVELSE AV KORT FRA BLINDEMANN</a:t>
            </a:r>
            <a:endParaRPr b="1" i="1" lang="en-US" sz="2800" spc="-1" strike="noStrike">
              <a:solidFill>
                <a:srgbClr val="000000"/>
              </a:solidFill>
              <a:latin typeface="Arial"/>
            </a:endParaRPr>
          </a:p>
        </p:txBody>
      </p:sp>
      <p:sp>
        <p:nvSpPr>
          <p:cNvPr id="8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FORM FOR ANGIVELSE AV KORT FRA BLINDEMANN</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spillefører angir et kort som skal spilles fra blindemann, bør han tydelig nevne både farge og rangering av det ønskede kort.</a:t>
            </a:r>
            <a:endParaRPr b="1" lang="en-US" sz="1800" spc="-1" strike="noStrike">
              <a:solidFill>
                <a:srgbClr val="000000"/>
              </a:solidFill>
              <a:latin typeface="Arial"/>
            </a:endParaRPr>
          </a:p>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FULLSTENDIG ELLER FEILAKTIG ANGIVELSE</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tilfelle spillefører gir en ufullstendig eller feilaktig angivelse av hvilket kort som skal spilles fra blindemann, kommer følgende begrensninger til anvendelse (</a:t>
            </a:r>
            <a:r>
              <a:rPr b="0" i="1" lang="nb-NO" sz="1800" spc="-1" strike="noStrike">
                <a:solidFill>
                  <a:srgbClr val="000000"/>
                </a:solidFill>
                <a:latin typeface="Arial"/>
              </a:rPr>
              <a:t>unntatt når spilleføreren helt uomtvistelig har hatt noe annet til hensikt)</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1. SPILLET BEGYNNER</a:t>
            </a:r>
            <a:endParaRPr b="1" i="1" lang="en-US" sz="2800" spc="-1" strike="noStrike">
              <a:solidFill>
                <a:srgbClr val="000000"/>
              </a:solidFill>
              <a:latin typeface="Arial"/>
            </a:endParaRPr>
          </a:p>
        </p:txBody>
      </p:sp>
      <p:sp>
        <p:nvSpPr>
          <p:cNvPr id="4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GJENTAGELSE AV MELDINGSFORLØPET OG ANDRE SPØRSMÅL</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åpningsutspillet er lagt på bordet, men før det blir snudd med fremsiden opp, kan utspillerens makker og den antatte spillefører begge forlange å få meldingsforløpet gjentatt, eller be om forklaring på meldinger fra motstanderne (se §20). Spilleføreren og hver av motspillerne kan første gang de skal spille et kort, be om å få gjentatt meldingsforløpet. Denne retten utgår når kortet er spilt. Motspillerne </a:t>
            </a:r>
            <a:r>
              <a:rPr b="0" i="1" lang="nb-NO" sz="1800" spc="-1" strike="noStrike">
                <a:solidFill>
                  <a:srgbClr val="000000"/>
                </a:solidFill>
                <a:latin typeface="Arial"/>
              </a:rPr>
              <a:t>(med forbehold om at §16 kan komme til anvendelse)</a:t>
            </a:r>
            <a:r>
              <a:rPr b="1" lang="nb-NO" sz="1800" spc="-1" strike="noStrike">
                <a:solidFill>
                  <a:srgbClr val="000000"/>
                </a:solidFill>
                <a:latin typeface="Arial"/>
              </a:rPr>
              <a:t> og spilleføreren beholder retten til å be om forklaringer gjennom hele spilleforløpet hver gang det er deres tur til å spille.</a:t>
            </a:r>
            <a:endParaRPr b="1"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6. UFULLSTENDIG ELLER FEILAKTIG ANGIVELSE AV KORT FRA BLINDEMANN</a:t>
            </a:r>
            <a:endParaRPr b="1" i="1" lang="en-US" sz="2800" spc="-1" strike="noStrike">
              <a:solidFill>
                <a:srgbClr val="000000"/>
              </a:solidFill>
              <a:latin typeface="Arial"/>
            </a:endParaRPr>
          </a:p>
        </p:txBody>
      </p:sp>
      <p:sp>
        <p:nvSpPr>
          <p:cNvPr id="8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FULLSTENDIG ANGIVELSE AV RANGERING</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ved spill fra blindemann sier "høyt" eller bruker ord av tilsvarende betydning, betraktes det som om han har forlangt det høyeste kortet, men i fjerde hånd betraktes det som om han har bedt om det laveste vinnende kort i den angitte farge. Hvis spilleføreren gir blindemann beskjed om å vinne stikket, betraktes det som om han har angitt det laveste vinnende kort. Hvis spilleføreren sier "lavt" eller bruker ord av tilsvarende betydning, betraktes det som om han har angitt det laveste.</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NGIVELSE AV FARGE, MEN IKKE RANGERING</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farge, men ikke en rangering, betraktes det som om han har angitt det laveste kortet i fargen.</a:t>
            </a: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6. UFULLSTENDIG ELLER FEILAKTIG ANGIVELSE AV KORT FRA BLINDEMANN</a:t>
            </a:r>
            <a:endParaRPr b="1" i="1" lang="en-US" sz="2800" spc="-1" strike="noStrike">
              <a:solidFill>
                <a:srgbClr val="000000"/>
              </a:solidFill>
              <a:latin typeface="Arial"/>
            </a:endParaRPr>
          </a:p>
        </p:txBody>
      </p:sp>
      <p:sp>
        <p:nvSpPr>
          <p:cNvPr id="8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NGIVELSE AV RANGERING, MEN IKKE FARGE</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en rangering, men ikke en farge:</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VED UTSPILL</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 betraktes som om spilleføreren fortsetter den fargen blindemann vant foregående stikk i, forutsatt at det finnes et kort av den angitte rangering i denne fargen.</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I ALLE ANDRE TILFELLER</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 alle andre tilfeller må spilleføreren fra blindemann spille et kort av den angitte rangering hvis det kan gjøres på lovlig måte. Men hvis det finnes to eller flere slike kort som kan spilles på lovlig måte, må spilleføreren angi hvilket som skal spilles.</a:t>
            </a:r>
            <a:endParaRPr b="1"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6. UFULLSTENDIG ELLER FEILAKTIG ANGIVELSE AV KORT FRA BLINDEMANN</a:t>
            </a:r>
            <a:endParaRPr b="1" i="1" lang="en-US" sz="2800" spc="-1" strike="noStrike">
              <a:solidFill>
                <a:srgbClr val="000000"/>
              </a:solidFill>
              <a:latin typeface="Arial"/>
            </a:endParaRPr>
          </a:p>
        </p:txBody>
      </p:sp>
      <p:sp>
        <p:nvSpPr>
          <p:cNvPr id="8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NÅR DET ANGITTE KORT IKKE FINNES HOS BLINDEMANN</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et kort som ikke finnes hos blindemann, er angivelsen ugyldig og spilleføreren kan angi et hvilket som helst lovlig kor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NÅR HVERKEN FARGE ELLER RANGERING ER ANGIT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et spill uten å nevne hverken farge eller rangering </a:t>
            </a:r>
            <a:r>
              <a:rPr b="0" i="1" lang="nb-NO" sz="1800" spc="-1" strike="noStrike">
                <a:solidFill>
                  <a:srgbClr val="000000"/>
                </a:solidFill>
                <a:latin typeface="Arial"/>
              </a:rPr>
              <a:t>(for eksempel ved å si: "spill hva som helst" eller bruker ord av tilsvarende betydning)</a:t>
            </a:r>
            <a:r>
              <a:rPr b="0" lang="nb-NO" sz="1800" spc="-1" strike="noStrike">
                <a:solidFill>
                  <a:srgbClr val="000000"/>
                </a:solidFill>
                <a:latin typeface="Arial"/>
              </a:rPr>
              <a:t>, kan hvem som helst av motspillerne angi et spill fra blindemann.</a:t>
            </a:r>
            <a:endParaRPr b="1"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7. TILBAKETREKNING AV SPILT KORT</a:t>
            </a:r>
            <a:endParaRPr b="1" i="1" lang="en-US" sz="2800" spc="-1" strike="noStrike">
              <a:solidFill>
                <a:srgbClr val="000000"/>
              </a:solidFill>
              <a:latin typeface="Arial"/>
            </a:endParaRPr>
          </a:p>
        </p:txBody>
      </p:sp>
      <p:sp>
        <p:nvSpPr>
          <p:cNvPr id="9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0000"/>
          </a:bodyPr>
          <a:p>
            <a:pPr marL="2570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OR Å OPPFYLLE EN STRAFF</a:t>
            </a:r>
            <a:endParaRPr b="1" lang="en-US" sz="2400" spc="-1" strike="noStrike">
              <a:solidFill>
                <a:srgbClr val="000000"/>
              </a:solidFill>
              <a:latin typeface="Arial"/>
            </a:endParaRPr>
          </a:p>
          <a:p>
            <a:pPr lvl="1" marL="617040" indent="-205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spilt, kan trekkes tilbake for å oppfylle en straff </a:t>
            </a:r>
            <a:r>
              <a:rPr b="0" i="1" lang="nb-NO" sz="1800" spc="-1" strike="noStrike">
                <a:solidFill>
                  <a:srgbClr val="000000"/>
                </a:solidFill>
                <a:latin typeface="Arial"/>
              </a:rPr>
              <a:t>(men hvis en motspiller trekker et kort tilbake, kan det blir straffekort - se §49).</a:t>
            </a:r>
            <a:endParaRPr b="1" lang="en-US" sz="1800" spc="-1" strike="noStrike">
              <a:solidFill>
                <a:srgbClr val="000000"/>
              </a:solidFill>
              <a:latin typeface="Arial"/>
            </a:endParaRPr>
          </a:p>
          <a:p>
            <a:pPr marL="2570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 Å KORRIGERE ET ULOVLIG SPILL</a:t>
            </a:r>
            <a:endParaRPr b="1" lang="en-US" sz="2400" spc="-1" strike="noStrike">
              <a:solidFill>
                <a:srgbClr val="000000"/>
              </a:solidFill>
              <a:latin typeface="Arial"/>
            </a:endParaRPr>
          </a:p>
          <a:p>
            <a:pPr lvl="1" marL="617040" indent="-205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spilt, kan trekkes tilbake for å korrigere et ulovlig eller samtidig spill. </a:t>
            </a:r>
            <a:r>
              <a:rPr b="0" i="1" lang="nb-NO" sz="1800" spc="-1" strike="noStrike">
                <a:solidFill>
                  <a:srgbClr val="000000"/>
                </a:solidFill>
                <a:latin typeface="Arial"/>
              </a:rPr>
              <a:t>(Se §58 om samtidig spill. For motspillernes vedkommende, se §49 om straffekort.)</a:t>
            </a:r>
            <a:endParaRPr b="1" lang="en-US" sz="1800" spc="-1" strike="noStrike">
              <a:solidFill>
                <a:srgbClr val="000000"/>
              </a:solidFill>
              <a:latin typeface="Arial"/>
            </a:endParaRPr>
          </a:p>
          <a:p>
            <a:pPr marL="2570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OR Å FORANDRE EN ANGIVELSE GITT AV VANVARE</a:t>
            </a:r>
            <a:endParaRPr b="1" lang="en-US" sz="2400" spc="-1" strike="noStrike">
              <a:solidFill>
                <a:srgbClr val="000000"/>
              </a:solidFill>
              <a:latin typeface="Arial"/>
            </a:endParaRPr>
          </a:p>
          <a:p>
            <a:pPr lvl="1" marL="617040" indent="-205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spilt, kan trekkes tilbake uten straff etter at en angivelse er forandret som tillatt ifølge §45C4b)**.</a:t>
            </a:r>
            <a:endParaRPr b="1" lang="en-US" sz="1800" spc="-1" strike="noStrike">
              <a:solidFill>
                <a:srgbClr val="000000"/>
              </a:solidFill>
              <a:latin typeface="Arial"/>
            </a:endParaRPr>
          </a:p>
          <a:p>
            <a:pPr lvl="1" marL="617040" indent="-20556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45C4b) omhandler korrigering av kort som er angitt av vanvare.</a:t>
            </a:r>
            <a:endParaRPr b="1"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7. TILBAKETREKNING AV SPILT KORT</a:t>
            </a:r>
            <a:endParaRPr b="1" i="1" lang="en-US" sz="2800" spc="-1" strike="noStrike">
              <a:solidFill>
                <a:srgbClr val="000000"/>
              </a:solidFill>
              <a:latin typeface="Arial"/>
            </a:endParaRPr>
          </a:p>
        </p:txBody>
      </p:sp>
      <p:sp>
        <p:nvSpPr>
          <p:cNvPr id="9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TTER AT EN MOTSTANDER HAR FORANDRET SITT SPILL</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en motstander har forandret sitt spill, kan et spilt kort trekkes tilbake uten straff og erstattes med et annet kort.</a:t>
            </a:r>
            <a:endParaRPr b="1" lang="en-US" sz="1800" spc="-1" strike="noStrike">
              <a:solidFill>
                <a:srgbClr val="000000"/>
              </a:solidFill>
              <a:latin typeface="Arial"/>
            </a:endParaRPr>
          </a:p>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FORANDRING AV SPILL SOM ER BASERT PÅ FEILINFORMASJON</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TSPILL UTENFOR TUR</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utspill utenfor tur kan trekkes tilbake uten straff dersom utspilleren har fått feilaktig informasjon fra en motstander om at det var hans tur til å spille ut (VM skal ikke akseptere utspillet).</a:t>
            </a:r>
            <a:endParaRPr b="1"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7. TILBAKETREKNING AV SPILT KORT</a:t>
            </a:r>
            <a:endParaRPr b="1" i="1" lang="en-US" sz="2800" spc="-1" strike="noStrike">
              <a:solidFill>
                <a:srgbClr val="000000"/>
              </a:solidFill>
              <a:latin typeface="Arial"/>
            </a:endParaRPr>
          </a:p>
        </p:txBody>
      </p:sp>
      <p:sp>
        <p:nvSpPr>
          <p:cNvPr id="9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TILBAKETREKNING AV SPILT KOR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NÅR INGEN HAR SPILT PÅ ETTERPÅ</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trekke tilbake et kort han har spilt  som følge av en feilaktig forklaring på en melding eller spill fra en motstander og før det er gitt en korrigert forklaring, men bare hvis det ikke er gjort et påfølgende spill til stikket. Et åpningsutspill utenfor tur kan ikke trekkes tilbake dersom blindemann har vist noe kor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NÅR ÉN ELLER FLERE HAR SPILT PÅ ETTERPÅ</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t er for sent å korrigerte et spill som beskrevet under pkt. a) ovenfor, kommer §40C til anvendelse **.</a:t>
            </a:r>
            <a:endParaRPr b="1" lang="en-US" sz="1800" spc="-1" strike="noStrike">
              <a:solidFill>
                <a:srgbClr val="000000"/>
              </a:solidFill>
              <a:latin typeface="Arial"/>
            </a:endParaRPr>
          </a:p>
          <a:p>
            <a:pPr lvl="1" marL="685800" indent="-22860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40C gir turneringslederen anledning til å fastsette et justert resultat ved manglende eller ufullstendig forklaring.</a:t>
            </a:r>
            <a:endParaRPr b="1"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7. TILBAKETREKNING AV SPILT KORT</a:t>
            </a:r>
            <a:endParaRPr b="1" i="1" lang="en-US" sz="2800" spc="-1" strike="noStrike">
              <a:solidFill>
                <a:srgbClr val="000000"/>
              </a:solidFill>
              <a:latin typeface="Arial"/>
            </a:endParaRPr>
          </a:p>
        </p:txBody>
      </p:sp>
      <p:sp>
        <p:nvSpPr>
          <p:cNvPr id="9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ULOVLIG TILBAKETREKNING</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Med de unntagelser som er gitt i pkt. A-E ovenfor, kan intet kort trekkes tilbake når det først er spilt.</a:t>
            </a:r>
            <a:endParaRPr b="1"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8. KORT FREMVIST AV SPILLEFØRER</a:t>
            </a:r>
            <a:endParaRPr b="1" i="1" lang="en-US" sz="2800" spc="-1" strike="noStrike">
              <a:solidFill>
                <a:srgbClr val="000000"/>
              </a:solidFill>
              <a:latin typeface="Arial"/>
            </a:endParaRPr>
          </a:p>
        </p:txBody>
      </p:sp>
      <p:sp>
        <p:nvSpPr>
          <p:cNvPr id="98" name="PlaceHolder 2"/>
          <p:cNvSpPr>
            <a:spLocks noGrp="1"/>
          </p:cNvSpPr>
          <p:nvPr>
            <p:ph/>
          </p:nvPr>
        </p:nvSpPr>
        <p:spPr>
          <a:xfrm>
            <a:off x="990720" y="1828800"/>
            <a:ext cx="7162560" cy="4114800"/>
          </a:xfrm>
          <a:prstGeom prst="rect">
            <a:avLst/>
          </a:prstGeom>
          <a:noFill/>
          <a:ln w="0">
            <a:noFill/>
          </a:ln>
        </p:spPr>
        <p:txBody>
          <a:bodyPr lIns="90360" rIns="90360" tIns="44280" bIns="44280" anchor="t">
            <a:normAutofit fontScale="84000"/>
          </a:bodyPr>
          <a:p>
            <a:pPr marL="23976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FØREREN VISER ET KORT</a:t>
            </a:r>
            <a:endParaRPr b="1" lang="en-US" sz="2400" spc="-1" strike="noStrike">
              <a:solidFill>
                <a:srgbClr val="000000"/>
              </a:solidFill>
              <a:latin typeface="Arial"/>
            </a:endParaRPr>
          </a:p>
          <a:p>
            <a:pPr lvl="1" marL="576000" indent="-19188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føreren blir ikke ilagt straff for å vise frem et kort, og intet kort på spilleførerens eller blindemanns hånd kan noensinne bli straffekort. Spilleføreren er ikke forpliktet til å spille et kort som faller ned ved et uhell.</a:t>
            </a:r>
            <a:endParaRPr b="1" lang="en-US" sz="1800" spc="-1" strike="noStrike">
              <a:solidFill>
                <a:srgbClr val="000000"/>
              </a:solidFill>
              <a:latin typeface="Arial"/>
            </a:endParaRPr>
          </a:p>
          <a:p>
            <a:pPr marL="23976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SPILLEFØREREN SNUR SINE KORT</a:t>
            </a:r>
            <a:endParaRPr b="1" lang="en-US" sz="2400" spc="-1" strike="noStrike">
              <a:solidFill>
                <a:srgbClr val="000000"/>
              </a:solidFill>
              <a:latin typeface="Arial"/>
            </a:endParaRPr>
          </a:p>
          <a:p>
            <a:pPr lvl="1" marL="576000" indent="-19188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TTER ET ÅPNINGSUTSPILL UTENFOR TUR</a:t>
            </a:r>
            <a:endParaRPr b="1" lang="en-US" sz="1800" spc="-1" strike="noStrike">
              <a:solidFill>
                <a:srgbClr val="000000"/>
              </a:solidFill>
              <a:latin typeface="Arial"/>
            </a:endParaRPr>
          </a:p>
          <a:p>
            <a:pPr lvl="1" marL="576000" indent="-191880">
              <a:lnSpc>
                <a:spcPct val="8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en legger sine kort med fremsiden opp etter et åpningsutspill utenfor tur, kommer §54 til anvendelse**.</a:t>
            </a:r>
            <a:endParaRPr b="1" lang="en-US" sz="1800" spc="-1" strike="noStrike">
              <a:solidFill>
                <a:srgbClr val="000000"/>
              </a:solidFill>
              <a:latin typeface="Arial"/>
            </a:endParaRPr>
          </a:p>
          <a:p>
            <a:pPr lvl="1" marL="576000" indent="-191880">
              <a:lnSpc>
                <a:spcPct val="8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4A fastslår at spilleføreren nå blir blindemann.</a:t>
            </a:r>
            <a:endParaRPr b="1" lang="en-US" sz="1400" spc="-1" strike="noStrike">
              <a:solidFill>
                <a:srgbClr val="000000"/>
              </a:solidFill>
              <a:latin typeface="Arial"/>
            </a:endParaRPr>
          </a:p>
          <a:p>
            <a:pPr lvl="1" marL="576000" indent="-19188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I ALLE ANDRE TILFELLER</a:t>
            </a:r>
            <a:endParaRPr b="1" lang="en-US" sz="1800" spc="-1" strike="noStrike">
              <a:solidFill>
                <a:srgbClr val="000000"/>
              </a:solidFill>
              <a:latin typeface="Arial"/>
            </a:endParaRPr>
          </a:p>
          <a:p>
            <a:pPr lvl="1" marL="576000" indent="-19188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en legger kortene med fremsiden opp på ethvert annet tidspunkt enn etter et åpningsutspill utenfor tur, kan det betraktes som om spilleføreren har gjort krav på eller en avståelse av stikk, og §68 kommer i så fall til anvendelse.</a:t>
            </a:r>
            <a:endParaRPr b="1"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9. KORT FREMVIST AV EN MOTSPILLER</a:t>
            </a:r>
            <a:endParaRPr b="1" i="1" lang="en-US" sz="2800" spc="-1" strike="noStrike">
              <a:solidFill>
                <a:srgbClr val="000000"/>
              </a:solidFill>
              <a:latin typeface="Arial"/>
            </a:endParaRPr>
          </a:p>
        </p:txBody>
      </p:sp>
      <p:sp>
        <p:nvSpPr>
          <p:cNvPr id="10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legger et kort på bordet med fremsiden opp, holder et kort slik at hans makker kan ha vært i stand til å se fremsiden av det, eller nevner et gitt kort på hånden før han har rett til å gjøre det etter normalt spilleforløp eller ifølge loven, blir som straff ethvert slikt kort straffekort (§50). Men se også fotnoten* til §68 når det gjelder en motspiller som har avgitt en uttalelse om et ufullstendig stikk som fremdeles spilles.</a:t>
            </a:r>
            <a:br>
              <a:rPr sz="1800"/>
            </a:br>
            <a:br>
              <a:rPr sz="1800"/>
            </a:br>
            <a:r>
              <a:rPr b="0" lang="nb-NO" sz="1400" spc="-1" strike="noStrike">
                <a:solidFill>
                  <a:srgbClr val="000000"/>
                </a:solidFill>
                <a:latin typeface="Arial"/>
              </a:rPr>
              <a:t>*(fotnote til §68): Hvis utsagnet eller handlingen bare gjelder hvordan et ufullført pågående stikk kan vinnes eller tapes, fortsetter spillet som normalt. Kort som er fremvist eller avslørt av en motspiller, blir ikke straffekort, men §16 (urettmessig informasjon) kan komme til anvendelse. Se også §57A (spill i utide).</a:t>
            </a:r>
            <a:endParaRPr b="1"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0. BEHANDLING AV STRAFFEKORT</a:t>
            </a:r>
            <a:endParaRPr b="1" i="1" lang="en-US" sz="2800" spc="-1" strike="noStrike">
              <a:solidFill>
                <a:srgbClr val="000000"/>
              </a:solidFill>
              <a:latin typeface="Arial"/>
            </a:endParaRPr>
          </a:p>
        </p:txBody>
      </p:sp>
      <p:sp>
        <p:nvSpPr>
          <p:cNvPr id="10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524"/>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Et kort som er fremvist i utide (men ikke spilt ut - se §57) av en motspiller, blir straffekort med mindre TL treffer en annen avgjørelse. TL skal tildele justert score i stedet for de korrigeringer som er beskrevet nedenfor når han dømmer at §72B1 gjelder**.</a:t>
            </a:r>
            <a:br>
              <a:rPr sz="1800"/>
            </a:br>
            <a:br>
              <a:rPr sz="1800"/>
            </a:br>
            <a:r>
              <a:rPr b="0" lang="nb-NO" sz="1400" spc="-1" strike="noStrike">
                <a:solidFill>
                  <a:srgbClr val="000000"/>
                </a:solidFill>
                <a:latin typeface="Arial"/>
              </a:rPr>
              <a:t>**§72B1 sier at når den feilende på det tidspunkt uregelmessigheten ble begått kunne vite at den kunne skade den ikke-feilende side, kan han tildele justert score.</a:t>
            </a:r>
            <a:endParaRPr b="1" lang="en-US" sz="1400" spc="-1" strike="noStrike">
              <a:solidFill>
                <a:srgbClr val="000000"/>
              </a:solidFill>
              <a:latin typeface="Arial"/>
            </a:endParaRPr>
          </a:p>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STRAFFEKORTET SKAL BLI LIGGENDE FREMVIST</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traffekort må bli liggende på bordet like foran spilleren det tilhører, med fremsiden opp - helt til det er spilt eller til det er valgt en annen straff.</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1. SPILLET BEGYNNER</a:t>
            </a:r>
            <a:endParaRPr b="1" i="1" lang="en-US" sz="2800" spc="-1" strike="noStrike">
              <a:solidFill>
                <a:srgbClr val="000000"/>
              </a:solidFill>
              <a:latin typeface="Arial"/>
            </a:endParaRPr>
          </a:p>
        </p:txBody>
      </p:sp>
      <p:sp>
        <p:nvSpPr>
          <p:cNvPr id="50"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fontScale="91000"/>
          </a:bodyPr>
          <a:p>
            <a:pPr marL="25992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ÅPNINGSUTSPILLET BLIR SNUDD</a:t>
            </a:r>
            <a:endParaRPr b="1" lang="en-US" sz="2400" spc="-1" strike="noStrike">
              <a:solidFill>
                <a:srgbClr val="000000"/>
              </a:solidFill>
              <a:latin typeface="Arial"/>
            </a:endParaRPr>
          </a:p>
          <a:p>
            <a:pPr lvl="1" marL="623880" indent="-2077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spørreperioden blir åpningsutspillet snudd med fremsiden opp, og spille begynner. Blindemanns hånd legges ned på bordet. Etter at det er blitt for sent å få de foregående meldinger gjentatt </a:t>
            </a:r>
            <a:r>
              <a:rPr b="0" i="1" lang="nb-NO" sz="1800" spc="-1" strike="noStrike">
                <a:solidFill>
                  <a:srgbClr val="000000"/>
                </a:solidFill>
                <a:latin typeface="Arial"/>
              </a:rPr>
              <a:t>(se pkt. B ovenfor</a:t>
            </a:r>
            <a:r>
              <a:rPr b="1" lang="nb-NO" sz="1800" spc="-1" strike="noStrike">
                <a:solidFill>
                  <a:srgbClr val="000000"/>
                </a:solidFill>
                <a:latin typeface="Arial"/>
              </a:rPr>
              <a:t>), har spilleføreren og hver av motspillerne hver gang det er deres tur til å spille, rett til å få opplyst hva kontrakten er og hvorvidt den er doblet eller redoblet, men ikke av hvem.</a:t>
            </a:r>
            <a:endParaRPr b="1" lang="en-US" sz="1800" spc="-1" strike="noStrike">
              <a:solidFill>
                <a:srgbClr val="000000"/>
              </a:solidFill>
              <a:latin typeface="Arial"/>
            </a:endParaRPr>
          </a:p>
          <a:p>
            <a:pPr marL="25992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BLINDEMANNS HÅND</a:t>
            </a:r>
            <a:endParaRPr b="1" lang="en-US" sz="2400" spc="-1" strike="noStrike">
              <a:solidFill>
                <a:srgbClr val="000000"/>
              </a:solidFill>
              <a:latin typeface="Arial"/>
            </a:endParaRPr>
          </a:p>
          <a:p>
            <a:pPr lvl="1" marL="623880" indent="-2077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åpningsutspillet er snudd med fremsiden opp, legger blindemann sin hånd ned på bordet foran seg med fremsiden opp, sortert i farger og kortene etter rangering. Kortene legges i rekker som ligger med lengderetningen mot spilleføreren, med trumfen lengst til høyre for blindemann. Spillefører spiller både sin egen og blindemanns hånd.</a:t>
            </a:r>
            <a:endParaRPr b="1"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0. BEHANDLING AV STRAFFEKORT</a:t>
            </a:r>
            <a:endParaRPr b="1" i="1" lang="en-US" sz="2800" spc="-1" strike="noStrike">
              <a:solidFill>
                <a:srgbClr val="000000"/>
              </a:solidFill>
              <a:latin typeface="Arial"/>
            </a:endParaRPr>
          </a:p>
        </p:txBody>
      </p:sp>
      <p:sp>
        <p:nvSpPr>
          <p:cNvPr id="10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TORT ELLER LITE STRAFFEKORT</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 enkelt kort av lavere rangering enn honnør, og som er frem-vist av vanvare (for eksempel når man spiller to kort til et stikk, eller mister et kort ved et uhell), blir automatisk et lite straffekor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kort som rangerer som honnør, og ethvert kort som er fremvist ved forsettlig spill (for eksempel når man spiller utenfor tur, eller revokerer og deretter korrigerer det), blir et stort straffekort. Når en motspiller har to eller flere straffekort, blir alle slike kort store straffekort.</a:t>
            </a:r>
            <a:endParaRPr b="1"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0. BEHANDLING AV STRAFFEKORT</a:t>
            </a:r>
            <a:endParaRPr b="1" i="1" lang="en-US" sz="2800" spc="-1" strike="noStrike">
              <a:solidFill>
                <a:srgbClr val="000000"/>
              </a:solidFill>
              <a:latin typeface="Arial"/>
            </a:endParaRPr>
          </a:p>
        </p:txBody>
      </p:sp>
      <p:sp>
        <p:nvSpPr>
          <p:cNvPr id="10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EHANDLING AV LITE STRAFFEKORT</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har et lite straffekort, kan denne ikke spille noe kort av samme farge under honnørkorts rangering før straffekortet er spilt </a:t>
            </a:r>
            <a:r>
              <a:rPr b="0" i="1" lang="nb-NO" sz="1800" spc="-1" strike="noStrike">
                <a:solidFill>
                  <a:srgbClr val="000000"/>
                </a:solidFill>
                <a:latin typeface="Arial"/>
              </a:rPr>
              <a:t>(motspilleren har imidlertid rett til å spille et honnørkort i stedet)</a:t>
            </a:r>
            <a:r>
              <a:rPr b="1" lang="nb-NO" sz="1800" spc="-1" strike="noStrike">
                <a:solidFill>
                  <a:srgbClr val="000000"/>
                </a:solidFill>
                <a:latin typeface="Arial"/>
              </a:rPr>
              <a:t>. Den feilendes makker blir ikke ilagt utspillsstraff, men informasjon som erverves ved at makker får se straffekortet, er uvedkommende og urettmessig (se §16A).</a:t>
            </a:r>
            <a:endParaRPr b="1"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0. BEHANDLING AV STRAFFEKORT</a:t>
            </a:r>
            <a:endParaRPr b="1" i="1" lang="en-US" sz="2800" spc="-1" strike="noStrike">
              <a:solidFill>
                <a:srgbClr val="000000"/>
              </a:solidFill>
              <a:latin typeface="Arial"/>
            </a:endParaRPr>
          </a:p>
        </p:txBody>
      </p:sp>
      <p:sp>
        <p:nvSpPr>
          <p:cNvPr id="10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2000"/>
          </a:bodyPr>
          <a:p>
            <a:pPr marL="262800" indent="0">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BEHANDLING AV STORT STRAFFEKORT</a:t>
            </a:r>
            <a:br>
              <a:rPr sz="2400"/>
            </a:br>
            <a:r>
              <a:rPr b="1" lang="nb-NO" sz="1800" spc="-1" strike="noStrike">
                <a:solidFill>
                  <a:srgbClr val="000000"/>
                </a:solidFill>
                <a:latin typeface="Arial"/>
              </a:rPr>
              <a:t>Når en motspiller har et stort straffekort, kan både den feilende og hans makker pålegges begrensninger - den feilende hver gang denne skal spille, og den feilendes makker hver gang han skal spille ut.</a:t>
            </a:r>
            <a:endParaRPr b="1" lang="en-US" sz="1800" spc="-1" strike="noStrike">
              <a:solidFill>
                <a:srgbClr val="000000"/>
              </a:solidFill>
              <a:latin typeface="Arial"/>
            </a:endParaRPr>
          </a:p>
          <a:p>
            <a:pPr lvl="1" marL="630720" indent="-21024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N FEILENDE SKAL SPILLE</a:t>
            </a:r>
            <a:endParaRPr b="1" lang="en-US" sz="1800" spc="-1" strike="noStrike">
              <a:solidFill>
                <a:srgbClr val="000000"/>
              </a:solidFill>
              <a:latin typeface="Arial"/>
            </a:endParaRPr>
          </a:p>
          <a:p>
            <a:pPr lvl="1" marL="630720" indent="-21024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stort straffekort må spilles ved første lovlige anledning, uansett om det dreier seg om utspill, følge farge, avkast eller å trumfe (påbudet om å spille straffekortet ved første lovlige anledning er lovlig informasjon for hans makker, derimot er all annen informasjon som måtte fremkomme av det viste kortet ulovlig). Hvis en motspiller har to eller flere straffekort som kan spilles på lovlig måte, kan spilleføreren bestemme hvilket som skal spilles. Forpliktelsen til å følge farge eller til å oppfylle en spillestraff går foran plikten til å spille et stort straffekort, men straffekortet må fortsatt bli liggende på bordet med fremsiden opp og spilles ved neste lovlige anledning.</a:t>
            </a:r>
            <a:endParaRPr b="1"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0. BEHANDLING AV STRAFFEKORT</a:t>
            </a:r>
            <a:endParaRPr b="1" i="1" lang="en-US" sz="2800" spc="-1" strike="noStrike">
              <a:solidFill>
                <a:srgbClr val="000000"/>
              </a:solidFill>
              <a:latin typeface="Arial"/>
            </a:endParaRPr>
          </a:p>
        </p:txBody>
      </p:sp>
      <p:sp>
        <p:nvSpPr>
          <p:cNvPr id="11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N FEILENDES MAKKER SKAL SPILLE U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utspillet på et tidspunkt da hans makker har et stort straffekort, kan han ikke spille ut før spilleføreren har meddelt hvilken av mulighetene nedenfor som skal velges </a:t>
            </a:r>
            <a:r>
              <a:rPr b="0" i="1" lang="nb-NO" sz="1800" spc="-1" strike="noStrike">
                <a:solidFill>
                  <a:srgbClr val="000000"/>
                </a:solidFill>
                <a:latin typeface="Arial"/>
              </a:rPr>
              <a:t>(hvis motspilleren spiller ut i utide, blir han ilagt straff ifølge §49)</a:t>
            </a:r>
            <a:r>
              <a:rPr b="0"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Å FORLANGE ELLER FORBY UTSPILL I STRAFFEKORTETS FARGE</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 kan forlange* at den feilendes makker spiller ut i samme farge som straffekortet, eller forby* utspill i denne fargen så lenge han har utspillet </a:t>
            </a:r>
            <a:r>
              <a:rPr b="0" i="1" lang="nb-NO" sz="1800" spc="-1" strike="noStrike">
                <a:solidFill>
                  <a:srgbClr val="000000"/>
                </a:solidFill>
                <a:latin typeface="Arial"/>
              </a:rPr>
              <a:t>(når det gjelder to eller flere straffekort - se §51)</a:t>
            </a:r>
            <a:r>
              <a:rPr b="0" lang="nb-NO" sz="1800" spc="-1" strike="noStrike">
                <a:solidFill>
                  <a:srgbClr val="000000"/>
                </a:solidFill>
                <a:latin typeface="Arial"/>
              </a:rPr>
              <a:t>. Hvis spilleføreren gjør bruk av sin rett til å bestemme utspillet, er straffekortet ikke lenger straffekort og tas opp.</a:t>
            </a:r>
            <a:endParaRPr b="1"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0. BEHANDLING AV STRAFFEKORT</a:t>
            </a:r>
            <a:endParaRPr b="1" i="1" lang="en-US" sz="2800" spc="-1" strike="noStrike">
              <a:solidFill>
                <a:srgbClr val="000000"/>
              </a:solidFill>
              <a:latin typeface="Arial"/>
            </a:endParaRPr>
          </a:p>
        </p:txBody>
      </p:sp>
      <p:sp>
        <p:nvSpPr>
          <p:cNvPr id="11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spilleren ikke er i stand til å spille ut som det forlanges - se §59**.</a:t>
            </a:r>
            <a:endParaRPr b="1" lang="en-US" sz="1400" spc="-1" strike="noStrike">
              <a:solidFill>
                <a:srgbClr val="000000"/>
              </a:solidFill>
              <a:latin typeface="Arial"/>
            </a:endParaRPr>
          </a:p>
          <a:p>
            <a:pPr lvl="1" marL="685800" indent="-22860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9: Hvis en spiller ikke er i stand til å gjøre et utspill eller spill som han er pålagt som straff, enten fordi han ikke har noe kort i den fargen som forlanges, eller bare har kort i en farge som er forbudt å spille ut, eller fordi spilleren er nødt til å følge farge - så kan han spille et hvilket som helst annet lovlig kort.</a:t>
            </a:r>
            <a:endParaRPr b="1" lang="en-US" sz="1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INGEN BEGRENSNINGER AV UTSPILLE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ikke gjør bruk av sin rett til å forlange eller forby utspill i straffekortets farge, kan motspilleren spille ut hvilket som helst kort, men straffekortet er fortsatt straffekort.</a:t>
            </a:r>
            <a:endParaRPr b="1"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1. TO ELLER FLERE STRAFFEKORT</a:t>
            </a:r>
            <a:endParaRPr b="1" i="1" lang="en-US" sz="2800" spc="-1" strike="noStrike">
              <a:solidFill>
                <a:srgbClr val="000000"/>
              </a:solidFill>
              <a:latin typeface="Arial"/>
            </a:endParaRPr>
          </a:p>
        </p:txBody>
      </p:sp>
      <p:sp>
        <p:nvSpPr>
          <p:cNvPr id="11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DET ER DEN FEILENDES TUR TIL Å SPILLE</a:t>
            </a:r>
            <a:endParaRPr b="1" lang="en-US" sz="2400" spc="-1" strike="noStrike">
              <a:solidFill>
                <a:srgbClr val="000000"/>
              </a:solidFill>
              <a:latin typeface="Arial"/>
            </a:endParaRPr>
          </a:p>
          <a:p>
            <a:pPr lvl="1" marL="637560" indent="-212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motspiller har to eller flere straffekort som kan spilles på lovlig måte, kan spilleføreren bestemme hvilket som skal spilles i denne tur.</a:t>
            </a:r>
            <a:endParaRPr b="1" lang="en-US" sz="1800" spc="-1" strike="noStrike">
              <a:solidFill>
                <a:srgbClr val="000000"/>
              </a:solidFill>
              <a:latin typeface="Arial"/>
            </a:endParaRPr>
          </a:p>
          <a:p>
            <a:pPr marL="26568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N FEILENDES MAKKER HAR UTSPILLET</a:t>
            </a:r>
            <a:endParaRPr b="1" lang="en-US" sz="2400" spc="-1" strike="noStrike">
              <a:solidFill>
                <a:srgbClr val="000000"/>
              </a:solidFill>
              <a:latin typeface="Arial"/>
            </a:endParaRPr>
          </a:p>
          <a:p>
            <a:pPr lvl="1" marL="637560" indent="-212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TRAFFEKORT I SAMME FARGE</a:t>
            </a:r>
            <a:endParaRPr b="1" lang="en-US" sz="1800" spc="-1" strike="noStrike">
              <a:solidFill>
                <a:srgbClr val="000000"/>
              </a:solidFill>
              <a:latin typeface="Arial"/>
            </a:endParaRPr>
          </a:p>
          <a:p>
            <a:pPr lvl="1" marL="637560" indent="-212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FORLANGER UTSPILL I FARGEN</a:t>
            </a:r>
            <a:endParaRPr b="1" lang="en-US" sz="1800" spc="-1" strike="noStrike">
              <a:solidFill>
                <a:srgbClr val="000000"/>
              </a:solidFill>
              <a:latin typeface="Arial"/>
            </a:endParaRPr>
          </a:p>
          <a:p>
            <a:pPr lvl="1" marL="637560" indent="-212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to eller flere straffekort i samme farge, og spilleføreren forlanger at den feilendes makker skal spille ut denne fargen, blir alle kortene i denne fargen ikke lenger straffekort og tas opp. Motspilleren kan gjøre et hvilket som helst lovlig spill til stikket.</a:t>
            </a:r>
            <a:endParaRPr b="1"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1. TO ELLER FLERE STRAFFEKORT</a:t>
            </a:r>
            <a:endParaRPr b="1" i="1" lang="en-US" sz="2800" spc="-1" strike="noStrike">
              <a:solidFill>
                <a:srgbClr val="000000"/>
              </a:solidFill>
              <a:latin typeface="Arial"/>
            </a:endParaRPr>
          </a:p>
        </p:txBody>
      </p:sp>
      <p:sp>
        <p:nvSpPr>
          <p:cNvPr id="11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0000"/>
          </a:bodyPr>
          <a:p>
            <a:pPr lvl="1" marL="617040" indent="-205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SPILLEFØRER FORBYR UTSPILL I FARGEN</a:t>
            </a:r>
            <a:endParaRPr b="1" lang="en-US" sz="1800" spc="-1" strike="noStrike">
              <a:solidFill>
                <a:srgbClr val="000000"/>
              </a:solidFill>
              <a:latin typeface="Arial"/>
            </a:endParaRPr>
          </a:p>
          <a:p>
            <a:pPr lvl="1" marL="617040" indent="-205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forbyr utspill i straffekortets farge, kan motspilleren ta opp alle straffekort i denne fargen og gjør et hvilket som helst lovlig spill til stikket.</a:t>
            </a:r>
            <a:endParaRPr b="1" lang="en-US" sz="1800" spc="-1" strike="noStrike">
              <a:solidFill>
                <a:srgbClr val="000000"/>
              </a:solidFill>
              <a:latin typeface="Arial"/>
            </a:endParaRPr>
          </a:p>
          <a:p>
            <a:pPr lvl="1" marL="617040" indent="-205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TRAFFEKORT I MER ENN ÉN FARGE</a:t>
            </a:r>
            <a:endParaRPr b="1" lang="en-US" sz="1800" spc="-1" strike="noStrike">
              <a:solidFill>
                <a:srgbClr val="000000"/>
              </a:solidFill>
              <a:latin typeface="Arial"/>
            </a:endParaRPr>
          </a:p>
          <a:p>
            <a:pPr lvl="1" marL="617040" indent="-205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FORLANGER UTSPILL I ÉN AV FARGENE</a:t>
            </a:r>
            <a:endParaRPr b="1" lang="en-US" sz="1800" spc="-1" strike="noStrike">
              <a:solidFill>
                <a:srgbClr val="000000"/>
              </a:solidFill>
              <a:latin typeface="Arial"/>
            </a:endParaRPr>
          </a:p>
          <a:p>
            <a:pPr lvl="1" marL="617040" indent="-205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straffekort i mer enn én farge, kan spilleføreren forlange* at motspillerens makker spiller ut i en av fargene som motspilleren har straffekort i, og som han angir (men i så fall kommer pkt. B1a) ovenfor til anvendelse).</a:t>
            </a:r>
            <a:endParaRPr b="1" lang="en-US" sz="1800" spc="-1" strike="noStrike">
              <a:solidFill>
                <a:srgbClr val="000000"/>
              </a:solidFill>
              <a:latin typeface="Arial"/>
            </a:endParaRPr>
          </a:p>
          <a:p>
            <a:pPr lvl="1" marL="617040" indent="-20556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spilleren ikke er i stand til å spille ut som det forlanges - se §59**.</a:t>
            </a:r>
            <a:endParaRPr b="1" lang="en-US" sz="1400" spc="-1" strike="noStrike">
              <a:solidFill>
                <a:srgbClr val="000000"/>
              </a:solidFill>
              <a:latin typeface="Arial"/>
            </a:endParaRPr>
          </a:p>
          <a:p>
            <a:pPr lvl="1" marL="617040" indent="-20556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9: Hvis en spiller ikke er i stand til å gjøre et utspill eller spill som han er pålagt som straff, enten fordi han ikke har noe kort i den fargen som forlanges, eller bare har kort i en farge som er forbudt å spille, eller fordi spilleren er nødt til å følge farge - så kan han spille et hvilket som helst annet lovlig kort.</a:t>
            </a:r>
            <a:endParaRPr b="1"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1. TO ELLER FLERE STRAFFEKORT</a:t>
            </a:r>
            <a:endParaRPr b="1" i="1" lang="en-US" sz="2800" spc="-1" strike="noStrike">
              <a:solidFill>
                <a:srgbClr val="000000"/>
              </a:solidFill>
              <a:latin typeface="Arial"/>
            </a:endParaRPr>
          </a:p>
        </p:txBody>
      </p:sp>
      <p:sp>
        <p:nvSpPr>
          <p:cNvPr id="11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a:t>
            </a:r>
            <a:r>
              <a:rPr b="1" lang="nb-NO" sz="1800" spc="-1" strike="noStrike">
                <a:solidFill>
                  <a:srgbClr val="000000"/>
                </a:solidFill>
                <a:latin typeface="Arial"/>
              </a:rPr>
              <a:t>	</a:t>
            </a:r>
            <a:r>
              <a:rPr b="1" lang="nb-NO" sz="1800" spc="-1" strike="noStrike">
                <a:solidFill>
                  <a:srgbClr val="000000"/>
                </a:solidFill>
                <a:latin typeface="Arial"/>
              </a:rPr>
              <a:t>SPILLEFØRER FORBYR UTSPILL I ÉN ELLER FLERE AV FARGENE</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straffekort i mer enn én farge, kan spilleføreren forby* motspillerens makker å spille ut i en eller flere av disse fargene. I så fall plukker motspilleren opp alle straffekort i enhver farge som er forbudt av spilleføreren, og gjør et hvilket som helst lovlig spill til stikket.</a:t>
            </a:r>
            <a:endParaRPr b="1" lang="en-US" sz="1800" spc="-1" strike="noStrike">
              <a:solidFill>
                <a:srgbClr val="000000"/>
              </a:solidFill>
              <a:latin typeface="Arial"/>
            </a:endParaRPr>
          </a:p>
          <a:p>
            <a:pPr lvl="1" marL="685800" indent="-22860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spilleren ikke er i stand til å spille ut som det forlanges - se §59**.</a:t>
            </a:r>
            <a:endParaRPr b="1" lang="en-US" sz="1400" spc="-1" strike="noStrike">
              <a:solidFill>
                <a:srgbClr val="000000"/>
              </a:solidFill>
              <a:latin typeface="Arial"/>
            </a:endParaRPr>
          </a:p>
          <a:p>
            <a:pPr lvl="1" marL="685800" indent="-22860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9: Hvis en spiller ikke er i stand til å gjøre et utspill eller spill som han er pålagt som straff, enten fordi han ikke har noe kort i den fargen som forlanges, eller bare har kort i en farge som er forbudt å spille, eller fordi spilleren er nødt til å følge farge - så kan han spille et hvilket som helst annet lovlig kort.</a:t>
            </a:r>
            <a:endParaRPr b="1"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2. UNNLATELSE AV Å SPILLE UT ELLER SPILLE ET STRAFFEKORT</a:t>
            </a:r>
            <a:endParaRPr b="1" i="1" lang="en-US" sz="2800" spc="-1" strike="noStrike">
              <a:solidFill>
                <a:srgbClr val="000000"/>
              </a:solidFill>
              <a:latin typeface="Arial"/>
            </a:endParaRPr>
          </a:p>
        </p:txBody>
      </p:sp>
      <p:sp>
        <p:nvSpPr>
          <p:cNvPr id="12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OTSPILLER UNNLATER Å SPILLE STRAFFEKORT</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unnlater å spille ut eller spille et stort straffekort slik det er fastsatt i §50, kan motspilleren ikke på eget initiativ trekke tilbake et annet kort som er spilt.</a:t>
            </a:r>
            <a:endParaRPr b="1" lang="en-US" sz="1800" spc="-1" strike="noStrike">
              <a:solidFill>
                <a:srgbClr val="000000"/>
              </a:solidFill>
              <a:latin typeface="Arial"/>
            </a:endParaRPr>
          </a:p>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OTSPILLER SPILLER ET ANNET KORT</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TTE SPILLET BLIR GODTAT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KAN GODTA SPILLE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motspiller har spilt ut eller spilt et annet kort på et tidspunkt da lovene forlanger at han skal spille et straffekort, kan spilleføreren godta et slikt utspill eller spill.</a:t>
            </a:r>
            <a:endParaRPr b="1"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2. UNNLATELSE AV Å SPILLE UT ELLER SPILLE ET STRAFFEKORT</a:t>
            </a:r>
            <a:endParaRPr b="1" i="1" lang="en-US" sz="2800" spc="-1" strike="noStrike">
              <a:solidFill>
                <a:srgbClr val="000000"/>
              </a:solidFill>
              <a:latin typeface="Arial"/>
            </a:endParaRPr>
          </a:p>
        </p:txBody>
      </p:sp>
      <p:sp>
        <p:nvSpPr>
          <p:cNvPr id="12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SPILLEFØRER MÅ GODTA SPILLE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etter et slikt utspill eller spill har gjort et påfølgende spill fra sin egen eller blindemanns hånd, må han godta utspillet eller spille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STRAFFEKORTET ER FORTSATT STRAFFEKOR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spilte kort blir godtatt ifølge enten pkt. a) eller pkt. b) ovenfor, er det uspilte straffekortet fortsatt straffekor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PILLET BLIR IKKE GODTAT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kan forlange at motspilleren bytter ut det ulovlig utspilte eller spilte kortet med straffekortet. Ethvert kort som er ulovlig spilt ut eller spilt av motspilleren som ledd i en slik uregelmessighet, blir et stort straffekort.</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2. BLINDEMANNS RETTIGHETER</a:t>
            </a:r>
            <a:endParaRPr b="1" i="1" lang="en-US" sz="2800" spc="-1" strike="noStrike">
              <a:solidFill>
                <a:srgbClr val="000000"/>
              </a:solidFill>
              <a:latin typeface="Arial"/>
            </a:endParaRPr>
          </a:p>
        </p:txBody>
      </p:sp>
      <p:sp>
        <p:nvSpPr>
          <p:cNvPr id="5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ABSOLUTTE RETTIGHETER</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GI INFORMASJON</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har rett til, i TLs nærvær, å gi informasjon om faktiske forhold eller om regelspørsmål.</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OLDE TELLING PÅ STIKKENE</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holde telling på vunne og avgitte stikk.</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HJELPE SPILLEFØRER MED SPILL AV KOR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spille sine egne kort som spilleførerens hjelper og etter dennes instrukser </a:t>
            </a:r>
            <a:r>
              <a:rPr b="0" i="1" lang="nb-NO" sz="1800" spc="-1" strike="noStrike">
                <a:solidFill>
                  <a:srgbClr val="000000"/>
                </a:solidFill>
                <a:latin typeface="Arial"/>
              </a:rPr>
              <a:t>(hvis blindemann antyder eller foreslår et spill - se §45F)</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3. GODTAGELSE AV UTSPILL UTENFOR TUR</a:t>
            </a:r>
            <a:endParaRPr b="1" i="1" lang="en-US" sz="2800" spc="-1" strike="noStrike">
              <a:solidFill>
                <a:srgbClr val="000000"/>
              </a:solidFill>
              <a:latin typeface="Arial"/>
            </a:endParaRPr>
          </a:p>
        </p:txBody>
      </p:sp>
      <p:sp>
        <p:nvSpPr>
          <p:cNvPr id="12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UTSPILL UTENFOR TUR BEHANDLES SOM KORREKT</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spill som er gjort utenfor tur med fremsiden opp kan behandles som korrekt. Det blir et korrekt utspill hvis spilleføreren eller noen av motspillerne (alt etter hvem som har foretatt utspill utenfor tur) godtar det (ved å gi klart uttrykk for det), eller hvis spilleren til venstre spiller på* til det ukorrekte utspillet, men se §47E1. (Hvis det ikke blir sagt at utspillet godtas, og heller ikke blir gjort noe påspill, skal TL dømme at utspillet gjøres fra riktig hånd.)</a:t>
            </a:r>
            <a:endParaRPr b="1" lang="en-US" sz="1800" spc="-1" strike="noStrike">
              <a:solidFill>
                <a:srgbClr val="000000"/>
              </a:solidFill>
              <a:latin typeface="Arial"/>
            </a:endParaRPr>
          </a:p>
          <a:p>
            <a:pPr lvl="1" marL="685800" indent="-22860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en se også pkt. C nedenfor.</a:t>
            </a:r>
            <a:endParaRPr b="1"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3. GODTAGELSE AV UTSPILL UTENFOR TUR</a:t>
            </a:r>
            <a:endParaRPr b="1" i="1" lang="en-US" sz="2800" spc="-1" strike="noStrike">
              <a:solidFill>
                <a:srgbClr val="000000"/>
              </a:solidFill>
              <a:latin typeface="Arial"/>
            </a:endParaRPr>
          </a:p>
        </p:txBody>
      </p:sp>
      <p:sp>
        <p:nvSpPr>
          <p:cNvPr id="12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0000"/>
          </a:bodyPr>
          <a:p>
            <a:pPr marL="2570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FEIL MOTSPILLER SPILLER KORT TIL UKORREKT UTSPILL FRA SPILLEFØREREN</a:t>
            </a:r>
            <a:endParaRPr b="1" lang="en-US" sz="2400" spc="-1" strike="noStrike">
              <a:solidFill>
                <a:srgbClr val="000000"/>
              </a:solidFill>
              <a:latin typeface="Arial"/>
            </a:endParaRPr>
          </a:p>
          <a:p>
            <a:pPr lvl="1" marL="617040" indent="-20556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motspiller til høyre for den hånd som utspillet utenfor tur kom fra, spiller på til det ukorrekte utspillet*, blir utspillet stående og §57 kommer til anvendelse.</a:t>
            </a:r>
            <a:br>
              <a:rPr sz="1800"/>
            </a:br>
            <a:r>
              <a:rPr b="0" lang="nb-NO" sz="1400" spc="-1" strike="noStrike">
                <a:solidFill>
                  <a:srgbClr val="000000"/>
                </a:solidFill>
                <a:latin typeface="Arial"/>
              </a:rPr>
              <a:t>*Men se også pkt. C nedenfor.</a:t>
            </a:r>
            <a:endParaRPr b="1" lang="en-US" sz="1400" spc="-1" strike="noStrike">
              <a:solidFill>
                <a:srgbClr val="000000"/>
              </a:solidFill>
              <a:latin typeface="Arial"/>
            </a:endParaRPr>
          </a:p>
          <a:p>
            <a:pPr marL="2570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ET UKORREKT UTSPILL BLIR FULGT AV ET KORREKT</a:t>
            </a:r>
            <a:endParaRPr b="1" lang="en-US" sz="2400" spc="-1" strike="noStrike">
              <a:solidFill>
                <a:srgbClr val="000000"/>
              </a:solidFill>
              <a:latin typeface="Arial"/>
            </a:endParaRPr>
          </a:p>
          <a:p>
            <a:pPr lvl="1" marL="617040" indent="-205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utspillet rettmessig var hos en motstander av spilleren som spilte ut utenfor tur, kan denne motstander gjøre sitt korrekte utspill til det irregulære stikket uten at denne spillers kort blir betraktet som spilt til det ukorrekte utspillet. I så fall blir det korrekte utspillet stående, og alle kort som på grunn av feiltagelse er spilt til stikket, kan trekkes tilbake uten straff. </a:t>
            </a:r>
            <a:r>
              <a:rPr b="0" lang="nb-NO" sz="1800" spc="-1" strike="noStrike">
                <a:solidFill>
                  <a:srgbClr val="000000"/>
                </a:solidFill>
                <a:latin typeface="CG Times"/>
              </a:rPr>
              <a:t>. </a:t>
            </a:r>
            <a:r>
              <a:rPr b="0" i="1" lang="nb-NO" sz="1800" spc="-1" strike="noStrike">
                <a:solidFill>
                  <a:srgbClr val="000000"/>
                </a:solidFill>
                <a:latin typeface="Arial"/>
              </a:rPr>
              <a:t>(§16C2 kommer til anvendelse for en motspiller.)</a:t>
            </a:r>
            <a:endParaRPr b="1"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4. ÅPNINGSUTSPILL MED FREMSIDEN OPP UTENFOR TUR</a:t>
            </a:r>
            <a:endParaRPr b="1" i="1" lang="en-US" sz="2800" spc="-1" strike="noStrike">
              <a:solidFill>
                <a:srgbClr val="000000"/>
              </a:solidFill>
              <a:latin typeface="Arial"/>
            </a:endParaRPr>
          </a:p>
        </p:txBody>
      </p:sp>
      <p:sp>
        <p:nvSpPr>
          <p:cNvPr id="12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G Times"/>
              </a:rPr>
              <a:t>	</a:t>
            </a:r>
            <a:r>
              <a:rPr b="1" lang="nb-NO" sz="1800" spc="-1" strike="noStrike">
                <a:solidFill>
                  <a:srgbClr val="000000"/>
                </a:solidFill>
                <a:latin typeface="Arial"/>
              </a:rPr>
              <a:t>Når et åpningsutspill utenfor tur er gjort med billedsiden opp, og makkeren til den som spilte ut utenfor tur samtidig spiller ut med billedsiden ned, skal TL dømme at kortet som ble spilt ut med billedsiden ned settes tilbake på hånden, og det nedenstående kommer til anvendelse.</a:t>
            </a:r>
            <a:endParaRPr b="1" lang="en-US" sz="1800" spc="-1" strike="noStrike">
              <a:solidFill>
                <a:srgbClr val="000000"/>
              </a:solidFill>
              <a:latin typeface="Arial"/>
            </a:endParaRPr>
          </a:p>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FØRER LEGGER SIN HÅND PÅ BORDET</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et åpningsutspill utenfor tur er lagt med fremsiden opp, kan spilleføreren legge sin hånd på bordet. Derved blir han blindemann, og blindemann blir spillefører. Hvis spilleføreren begynner å legge sin hånd på bordet og derved viser frem ett eller flere kort, må han legge hele hånden på bord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4. ÅPNINGSUTSPILL MED FREMSIDEN OPP UTENFOR TUR</a:t>
            </a:r>
            <a:endParaRPr b="1" i="1" lang="en-US" sz="2800" spc="-1" strike="noStrike">
              <a:solidFill>
                <a:srgbClr val="000000"/>
              </a:solidFill>
              <a:latin typeface="Arial"/>
            </a:endParaRPr>
          </a:p>
        </p:txBody>
      </p:sp>
      <p:sp>
        <p:nvSpPr>
          <p:cNvPr id="130" name="PlaceHolder 2"/>
          <p:cNvSpPr>
            <a:spLocks noGrp="1"/>
          </p:cNvSpPr>
          <p:nvPr>
            <p:ph/>
          </p:nvPr>
        </p:nvSpPr>
        <p:spPr>
          <a:xfrm>
            <a:off x="990720" y="182880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PILLEFØRER GODTAR UTSPILLET</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åpningsutspill utenfor tur med fremsiden opp, kan spilleføreren godta det ukorrekte utspillet som beskrevet i §53, og blindemann legges på bordet i samsvar med §41.</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FØRER SPILLER KORT NUMMER TO</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rt nummer to til stikket spilles fra spilleførerens hånd.</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BLINDEMANN HAR SPILT KORT NUMMER TO</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spiller kort nummer to til stikket fra blindemann, kan blindemanns spilte kort ikke trekkes tilbake unntatt for å korrigere en revoke.</a:t>
            </a:r>
            <a:endParaRPr b="1"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4. ÅPNINGSUTSPILL MED FREMSIDEN OPP UTENFOR TUR</a:t>
            </a:r>
            <a:endParaRPr b="1" i="1" lang="en-US" sz="2800" spc="-1" strike="noStrike">
              <a:solidFill>
                <a:srgbClr val="000000"/>
              </a:solidFill>
              <a:latin typeface="Arial"/>
            </a:endParaRPr>
          </a:p>
        </p:txBody>
      </p:sp>
      <p:sp>
        <p:nvSpPr>
          <p:cNvPr id="13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PILLEFØRER MÅ GODTA UTSPILLET</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føreren kan ha sett noen av blindemanns kort </a:t>
            </a:r>
            <a:r>
              <a:rPr b="0" i="1" lang="nb-NO" sz="1800" spc="-1" strike="noStrike">
                <a:solidFill>
                  <a:srgbClr val="000000"/>
                </a:solidFill>
                <a:latin typeface="Arial"/>
              </a:rPr>
              <a:t>(bortsett fra kort som blindemann måtte ha fremvist under meldingsforløpet og som kom inn under §24)</a:t>
            </a:r>
            <a:r>
              <a:rPr b="1" lang="nb-NO" sz="1800" spc="-1" strike="noStrike">
                <a:solidFill>
                  <a:srgbClr val="000000"/>
                </a:solidFill>
                <a:latin typeface="Arial"/>
              </a:rPr>
              <a:t>, må spilleføreren godta utspillet.</a:t>
            </a:r>
            <a:endParaRPr b="1" lang="en-US" sz="1800" spc="-1" strike="noStrike">
              <a:solidFill>
                <a:srgbClr val="000000"/>
              </a:solidFill>
              <a:latin typeface="Arial"/>
            </a:endParaRPr>
          </a:p>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PILLEFØRER NEKTER Å GODTA UTSPILLET</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spilleføreren forlanger at motspilleren skal trekke tilbake det utspill som er gjort med fremsiden opp, kommer §56 til anvendelse.</a:t>
            </a:r>
            <a:endParaRPr b="1"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5. SPILLEFØRERS UTSPILL UTENFOR TUR</a:t>
            </a:r>
            <a:endParaRPr b="1" i="1" lang="en-US" sz="2800" spc="-1" strike="noStrike">
              <a:solidFill>
                <a:srgbClr val="000000"/>
              </a:solidFill>
              <a:latin typeface="Arial"/>
            </a:endParaRPr>
          </a:p>
        </p:txBody>
      </p:sp>
      <p:sp>
        <p:nvSpPr>
          <p:cNvPr id="13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FØRERS UTSPILL BLIR GODTATT</a:t>
            </a:r>
            <a:endParaRPr b="1" lang="en-US" sz="2400" spc="-1" strike="noStrike">
              <a:solidFill>
                <a:srgbClr val="000000"/>
              </a:solidFill>
              <a:latin typeface="Arial"/>
            </a:endParaRPr>
          </a:p>
          <a:p>
            <a:pPr lvl="1" marL="637560" indent="-212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føreren har spilt ut utenfor tur fra sin egen eller blindemanns hånd, kan hver av motspillerne godta utspillet som beskrevet i §53, eller kreve at det blir trukket tilbake</a:t>
            </a:r>
            <a:r>
              <a:rPr b="0" lang="nb-NO" sz="1800" spc="-1" strike="noStrike">
                <a:solidFill>
                  <a:srgbClr val="000000"/>
                </a:solidFill>
                <a:latin typeface="CG Times"/>
              </a:rPr>
              <a:t>  </a:t>
            </a:r>
            <a:r>
              <a:rPr b="0" i="1" lang="nb-NO" sz="1800" spc="-1" strike="noStrike">
                <a:solidFill>
                  <a:srgbClr val="000000"/>
                </a:solidFill>
                <a:latin typeface="Arial"/>
              </a:rPr>
              <a:t>(etter en feilinformasjon, se §47E1)</a:t>
            </a:r>
            <a:r>
              <a:rPr b="1" i="1" lang="nb-NO" sz="1800" spc="-1" strike="noStrike">
                <a:solidFill>
                  <a:srgbClr val="000000"/>
                </a:solidFill>
                <a:latin typeface="Arial"/>
              </a:rPr>
              <a:t>.</a:t>
            </a:r>
            <a:endParaRPr b="1" lang="en-US" sz="1800" spc="-1" strike="noStrike">
              <a:solidFill>
                <a:srgbClr val="000000"/>
              </a:solidFill>
              <a:latin typeface="Arial"/>
            </a:endParaRPr>
          </a:p>
          <a:p>
            <a:pPr marL="26568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VED KRAV OM AT SPILLEFØRER SKAL TREKKE UTSPILLET TILBAKE</a:t>
            </a:r>
            <a:endParaRPr b="1" lang="en-US" sz="2400" spc="-1" strike="noStrike">
              <a:solidFill>
                <a:srgbClr val="000000"/>
              </a:solidFill>
              <a:latin typeface="Arial"/>
            </a:endParaRPr>
          </a:p>
          <a:p>
            <a:pPr lvl="1" marL="637560" indent="-212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T ER EN MOTSPILLERS TUR TIL Å SPILLE UT</a:t>
            </a:r>
            <a:endParaRPr b="1" lang="en-US" sz="1800" spc="-1" strike="noStrike">
              <a:solidFill>
                <a:srgbClr val="000000"/>
              </a:solidFill>
              <a:latin typeface="Arial"/>
            </a:endParaRPr>
          </a:p>
          <a:p>
            <a:pPr lvl="1" marL="637560" indent="-212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har spilt ut fra sin egen eller blindemanns hånd på et tidspunkt da det var en motspillers tur til å spille ut, og en av motspillerne forlanger at spilleføreren skal trekke tilbake det ukorrekte utspill, setter spilleføreren uten straff det feilaktige utspilte kort tilbake på riktig hånd.</a:t>
            </a:r>
            <a:endParaRPr b="1"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5. SPILLEFØRERS UTSPILL UTENFOR TUR</a:t>
            </a:r>
            <a:endParaRPr b="1" i="1" lang="en-US" sz="2800" spc="-1" strike="noStrike">
              <a:solidFill>
                <a:srgbClr val="000000"/>
              </a:solidFill>
              <a:latin typeface="Arial"/>
            </a:endParaRPr>
          </a:p>
        </p:txBody>
      </p:sp>
      <p:sp>
        <p:nvSpPr>
          <p:cNvPr id="13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UTSPILLET ER HOS SPILLEFØRER ELLER BLINDEMANN</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har spilt ut fra feil hånd på et tidspunkt da det skulle spilles ut fra egen eller blindemanns hånd, og en av motspillerne forlanger at utspillet skal trekkes tilbake, trekker spilleren tilbake det feilaktige utspilte kort. Spilleføreren må nå spille ut fra riktig hånd.</a:t>
            </a:r>
            <a:endParaRPr b="1" lang="en-US" sz="1800" spc="-1" strike="noStrike">
              <a:solidFill>
                <a:srgbClr val="000000"/>
              </a:solidFill>
              <a:latin typeface="Arial"/>
            </a:endParaRPr>
          </a:p>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SPILLEFØREREN KAN ERVERVE INFORMASJON</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fører tillemper en spillemåte som kan være basert på informasjon han har ervervet gjennom lovbruddet, kan turneringslederen tildele et justert resultat.</a:t>
            </a:r>
            <a:endParaRPr b="1"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6. MOTSPILLERS UTSPILL UTENFOR TUR</a:t>
            </a:r>
            <a:endParaRPr b="1" i="1" lang="en-US" sz="2800" spc="-1" strike="noStrike">
              <a:solidFill>
                <a:srgbClr val="000000"/>
              </a:solidFill>
              <a:latin typeface="Arial"/>
            </a:endParaRPr>
          </a:p>
        </p:txBody>
      </p:sp>
      <p:sp>
        <p:nvSpPr>
          <p:cNvPr id="13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751"/>
              </a:spcBef>
              <a:spcAft>
                <a:spcPts val="49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spilleføreren forlanger at en motspiller skal trekke tilbake et utspill som er lagt med fremsiden opp utenfor tur, blir det ulovlig utspilte kort et stort straffekort, og §50 kommer til anvendelse.</a:t>
            </a:r>
            <a:endParaRPr b="1" lang="en-US" sz="2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7. MOTSPILLERS UTSPILL ELLER SPILL I UTIDE</a:t>
            </a:r>
            <a:endParaRPr b="1" i="1" lang="en-US" sz="2800" spc="-1" strike="noStrike">
              <a:solidFill>
                <a:srgbClr val="000000"/>
              </a:solidFill>
              <a:latin typeface="Arial"/>
            </a:endParaRPr>
          </a:p>
        </p:txBody>
      </p:sp>
      <p:sp>
        <p:nvSpPr>
          <p:cNvPr id="14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 I UTIDE ELLER UTSPILL TIL NESTE STIKK</a:t>
            </a:r>
            <a:endParaRPr b="1" lang="en-US" sz="2400" spc="-1" strike="noStrike">
              <a:solidFill>
                <a:srgbClr val="000000"/>
              </a:solidFill>
              <a:latin typeface="Arial"/>
            </a:endParaRPr>
          </a:p>
          <a:p>
            <a:pPr lvl="1" marL="637560" indent="-212400">
              <a:lnSpc>
                <a:spcPct val="90000"/>
              </a:lnSpc>
              <a:spcBef>
                <a:spcPts val="601"/>
              </a:spcBef>
              <a:spcAft>
                <a:spcPts val="400"/>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Når en motspiller spiller ut til neste stikk før hans makker har spilt til det foreliggende stikk. eller spiller utenfor tur før makker har spilt, blir kortet som er ukorrekt spilt ut eller spilt, et straffekort. Spilleføreren kan dessuten velge mellom følgende muligheter:</a:t>
            </a:r>
            <a:endParaRPr b="1" lang="en-US" sz="1600" spc="-1" strike="noStrike">
              <a:solidFill>
                <a:srgbClr val="000000"/>
              </a:solidFill>
              <a:latin typeface="Arial"/>
            </a:endParaRPr>
          </a:p>
          <a:p>
            <a:pPr lvl="1" marL="637560" indent="-212400">
              <a:lnSpc>
                <a:spcPct val="90000"/>
              </a:lnSpc>
              <a:spcBef>
                <a:spcPts val="601"/>
              </a:spcBef>
              <a:spcAft>
                <a:spcPts val="400"/>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VELGE HØYESTE KORT</a:t>
            </a:r>
            <a:endParaRPr b="1" lang="en-US" sz="1600" spc="-1" strike="noStrike">
              <a:solidFill>
                <a:srgbClr val="000000"/>
              </a:solidFill>
              <a:latin typeface="Arial"/>
            </a:endParaRPr>
          </a:p>
          <a:p>
            <a:pPr lvl="1" marL="637560" indent="-212400">
              <a:lnSpc>
                <a:spcPct val="90000"/>
              </a:lnSpc>
              <a:spcBef>
                <a:spcPts val="601"/>
              </a:spcBef>
              <a:spcAft>
                <a:spcPts val="400"/>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lange at den feilendes makker spiller det høyeste kort som denne har i den utspilte fargen, eller:</a:t>
            </a:r>
            <a:endParaRPr b="1" lang="en-US" sz="1600" spc="-1" strike="noStrike">
              <a:solidFill>
                <a:srgbClr val="000000"/>
              </a:solidFill>
              <a:latin typeface="Arial"/>
            </a:endParaRPr>
          </a:p>
          <a:p>
            <a:pPr lvl="1" marL="637560" indent="-212400">
              <a:lnSpc>
                <a:spcPct val="90000"/>
              </a:lnSpc>
              <a:spcBef>
                <a:spcPts val="601"/>
              </a:spcBef>
              <a:spcAft>
                <a:spcPts val="400"/>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VELGE LAVESTE KORT</a:t>
            </a:r>
            <a:endParaRPr b="1" lang="en-US" sz="1600" spc="-1" strike="noStrike">
              <a:solidFill>
                <a:srgbClr val="000000"/>
              </a:solidFill>
              <a:latin typeface="Arial"/>
            </a:endParaRPr>
          </a:p>
          <a:p>
            <a:pPr lvl="1" marL="637560" indent="-212400">
              <a:lnSpc>
                <a:spcPct val="90000"/>
              </a:lnSpc>
              <a:spcBef>
                <a:spcPts val="601"/>
              </a:spcBef>
              <a:spcAft>
                <a:spcPts val="400"/>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lange at den feilendes makker spiller det laveste kort som denne har i den utspilte fargen, eller:</a:t>
            </a:r>
            <a:endParaRPr b="1" lang="en-US" sz="1600" spc="-1" strike="noStrike">
              <a:solidFill>
                <a:srgbClr val="000000"/>
              </a:solidFill>
              <a:latin typeface="Arial"/>
            </a:endParaRPr>
          </a:p>
          <a:p>
            <a:pPr lvl="1" marL="637560" indent="-212400">
              <a:lnSpc>
                <a:spcPct val="90000"/>
              </a:lnSpc>
              <a:spcBef>
                <a:spcPts val="601"/>
              </a:spcBef>
              <a:spcAft>
                <a:spcPts val="400"/>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3.</a:t>
            </a:r>
            <a:r>
              <a:rPr b="1" lang="nb-NO" sz="1600" spc="-1" strike="noStrike">
                <a:solidFill>
                  <a:srgbClr val="000000"/>
                </a:solidFill>
                <a:latin typeface="Arial"/>
              </a:rPr>
              <a:t>	</a:t>
            </a:r>
            <a:r>
              <a:rPr b="1" lang="nb-NO" sz="1600" spc="-1" strike="noStrike">
                <a:solidFill>
                  <a:srgbClr val="000000"/>
                </a:solidFill>
                <a:latin typeface="Arial"/>
              </a:rPr>
              <a:t>NEKTE SPILL AV EN ANNEN FARGE</a:t>
            </a:r>
            <a:endParaRPr b="1" lang="en-US" sz="1600" spc="-1" strike="noStrike">
              <a:solidFill>
                <a:srgbClr val="000000"/>
              </a:solidFill>
              <a:latin typeface="Arial"/>
            </a:endParaRPr>
          </a:p>
          <a:p>
            <a:pPr lvl="1" marL="637560" indent="-212400">
              <a:lnSpc>
                <a:spcPct val="90000"/>
              </a:lnSpc>
              <a:spcBef>
                <a:spcPts val="601"/>
              </a:spcBef>
              <a:spcAft>
                <a:spcPts val="400"/>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by den feilendes makker å spille et kort i en annen farge som spilleføreren angir.</a:t>
            </a:r>
            <a:endParaRPr b="1" lang="en-US" sz="1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7. MOTSPILLERS UTSPILL ELLER SPILL I UTIDE</a:t>
            </a:r>
            <a:endParaRPr b="1" i="1" lang="en-US" sz="2800" spc="-1" strike="noStrike">
              <a:solidFill>
                <a:srgbClr val="000000"/>
              </a:solidFill>
              <a:latin typeface="Arial"/>
            </a:endParaRPr>
          </a:p>
        </p:txBody>
      </p:sp>
      <p:sp>
        <p:nvSpPr>
          <p:cNvPr id="14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4000"/>
          </a:bodyPr>
          <a:p>
            <a:pPr marL="26856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N FEILENDES MAKKER IKKE KAN OPPFYLLE STRAFFEN</a:t>
            </a:r>
            <a:endParaRPr b="1" lang="en-US" sz="2400" spc="-1" strike="noStrike">
              <a:solidFill>
                <a:srgbClr val="000000"/>
              </a:solidFill>
              <a:latin typeface="Arial"/>
            </a:endParaRPr>
          </a:p>
          <a:p>
            <a:pPr lvl="1" marL="644400" indent="-214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n feilendes makker ikke er i stand til å oppfylle den straff som spilleføreren har valgt, kan han spille et hvilket som helst annet kort som beskrevet i §59.</a:t>
            </a:r>
            <a:endParaRPr b="1" lang="en-US" sz="1800" spc="-1" strike="noStrike">
              <a:solidFill>
                <a:srgbClr val="000000"/>
              </a:solidFill>
              <a:latin typeface="Arial"/>
            </a:endParaRPr>
          </a:p>
          <a:p>
            <a:pPr marL="26856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SPILLEFØRER HAR SPILT FRA BEGGE HENDER FØR UREGELMESSIGHETEN SKJEDDE</a:t>
            </a:r>
            <a:endParaRPr b="1" lang="en-US" sz="2400" spc="-1" strike="noStrike">
              <a:solidFill>
                <a:srgbClr val="000000"/>
              </a:solidFill>
              <a:latin typeface="Arial"/>
            </a:endParaRPr>
          </a:p>
          <a:p>
            <a:pPr lvl="1" marL="644400" indent="-214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otspiller får ikke straff for å spille før sin makker, hvis spilleføreren har spilt fra begge hender, eller hvis blindemann har spilt et kort eller på ulovlig måte har foreslått at det skal spilles. En singelton hos blindemann, eller ett av flere kort med tilstøtende rangering i samme farge, betraktes ikke som automatisk spilt.</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2. BLINDEMANNS RETTIGHETER</a:t>
            </a:r>
            <a:endParaRPr b="1" i="1" lang="en-US" sz="2800" spc="-1" strike="noStrike">
              <a:solidFill>
                <a:srgbClr val="000000"/>
              </a:solidFill>
              <a:latin typeface="Arial"/>
            </a:endParaRPr>
          </a:p>
        </p:txBody>
      </p:sp>
      <p:sp>
        <p:nvSpPr>
          <p:cNvPr id="5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BEGRENSEDE RETTIGHETER</a:t>
            </a:r>
            <a:endParaRPr b="1" lang="en-US" sz="2400" spc="-1" strike="noStrike">
              <a:solidFill>
                <a:srgbClr val="000000"/>
              </a:solidFill>
              <a:latin typeface="Arial"/>
            </a:endParaRPr>
          </a:p>
          <a:p>
            <a:pPr lvl="1" marL="637560" indent="-212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lindemann har andre rettigheter. Disse er begrenset av bestemmelsene i §43.</a:t>
            </a:r>
            <a:endParaRPr b="1" lang="en-US" sz="1800" spc="-1" strike="noStrike">
              <a:solidFill>
                <a:srgbClr val="000000"/>
              </a:solidFill>
              <a:latin typeface="Arial"/>
            </a:endParaRPr>
          </a:p>
          <a:p>
            <a:pPr lvl="1" marL="637560" indent="-212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ØRRE OM REVOKE</a:t>
            </a:r>
            <a:endParaRPr b="1" lang="en-US" sz="1800" spc="-1" strike="noStrike">
              <a:solidFill>
                <a:srgbClr val="000000"/>
              </a:solidFill>
              <a:latin typeface="Arial"/>
            </a:endParaRPr>
          </a:p>
          <a:p>
            <a:pPr lvl="1" marL="637560" indent="-212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 har unnlatt å følge farge til et stikk, kan blindemann spørre om han har et kort i den spilte fargen. Blindemann kan ikke spørre noen av motstanderne om dette.</a:t>
            </a:r>
            <a:endParaRPr b="1" lang="en-US" sz="1800" spc="-1" strike="noStrike">
              <a:solidFill>
                <a:srgbClr val="000000"/>
              </a:solidFill>
              <a:latin typeface="Arial"/>
            </a:endParaRPr>
          </a:p>
          <a:p>
            <a:pPr lvl="1" marL="637560" indent="-212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ORSØKE Å FORHINDRE UREGELMESSIGHET</a:t>
            </a:r>
            <a:endParaRPr b="1" lang="en-US" sz="1800" spc="-1" strike="noStrike">
              <a:solidFill>
                <a:srgbClr val="000000"/>
              </a:solidFill>
              <a:latin typeface="Arial"/>
            </a:endParaRPr>
          </a:p>
          <a:p>
            <a:pPr lvl="1" marL="637560" indent="-212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forsøke å forhindre at spilleføreren foretar en uregelmessighet.</a:t>
            </a:r>
            <a:endParaRPr b="1" lang="en-US" sz="1800" spc="-1" strike="noStrike">
              <a:solidFill>
                <a:srgbClr val="000000"/>
              </a:solidFill>
              <a:latin typeface="Arial"/>
            </a:endParaRPr>
          </a:p>
          <a:p>
            <a:pPr lvl="1" marL="637560" indent="-212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ÅTALE UREGELMESSIGHET</a:t>
            </a:r>
            <a:endParaRPr b="1" lang="en-US" sz="1800" spc="-1" strike="noStrike">
              <a:solidFill>
                <a:srgbClr val="000000"/>
              </a:solidFill>
              <a:latin typeface="Arial"/>
            </a:endParaRPr>
          </a:p>
          <a:p>
            <a:pPr lvl="1" marL="637560" indent="-212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påtale enhver uregelmessighet, men bare etter at spillet av hånden er avsluttet.</a:t>
            </a:r>
            <a:endParaRPr b="1"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8. SAMTIDIG UTSPILL ELLER SPILL</a:t>
            </a:r>
            <a:endParaRPr b="1" i="1" lang="en-US" sz="2800" spc="-1" strike="noStrike">
              <a:solidFill>
                <a:srgbClr val="000000"/>
              </a:solidFill>
              <a:latin typeface="Arial"/>
            </a:endParaRPr>
          </a:p>
        </p:txBody>
      </p:sp>
      <p:sp>
        <p:nvSpPr>
          <p:cNvPr id="14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AMTIDIG SPILL AV TO SPILLERE</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utspill eller spill som foretas samtidig med et lovlig utspill eller spill fra en annen spiller, betraktes som å komme etter dette.</a:t>
            </a:r>
            <a:endParaRPr b="1" lang="en-US" sz="1800" spc="-1" strike="noStrike">
              <a:solidFill>
                <a:srgbClr val="000000"/>
              </a:solidFill>
              <a:latin typeface="Arial"/>
            </a:endParaRPr>
          </a:p>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AMTIDIG SPILL AV KORT FRA SAMME HÅND</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spiller ut eller spiller to eller flere kort samtidig, skjer følgende:</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ETT KORT ER SYNLIG</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bare ett kort er synlig, er dette krotet spilt. Alle andre kort plukkes opp uten straff.</a:t>
            </a:r>
            <a:endParaRPr b="1"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8. SAMTIDIG UTSPILL ELLER SPILL</a:t>
            </a:r>
            <a:endParaRPr b="1" i="1" lang="en-US" sz="2800" spc="-1" strike="noStrike">
              <a:solidFill>
                <a:srgbClr val="000000"/>
              </a:solidFill>
              <a:latin typeface="Arial"/>
            </a:endParaRPr>
          </a:p>
        </p:txBody>
      </p:sp>
      <p:sp>
        <p:nvSpPr>
          <p:cNvPr id="14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lvl="1" marL="637560" indent="-212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LERE KORT ER SYNLIGE</a:t>
            </a:r>
            <a:endParaRPr b="1" lang="en-US" sz="1800" spc="-1" strike="noStrike">
              <a:solidFill>
                <a:srgbClr val="000000"/>
              </a:solidFill>
              <a:latin typeface="Arial"/>
            </a:endParaRPr>
          </a:p>
          <a:p>
            <a:pPr lvl="1" marL="637560" indent="-212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mer enn ett kort er synlig, velger spilleren hvilket kort han vil spille. Hvis han er motspiller, blir ethvert annet fremvist kort straffekort (se §50).</a:t>
            </a:r>
            <a:endParaRPr b="1" lang="en-US" sz="1800" spc="-1" strike="noStrike">
              <a:solidFill>
                <a:srgbClr val="000000"/>
              </a:solidFill>
              <a:latin typeface="Arial"/>
            </a:endParaRPr>
          </a:p>
          <a:p>
            <a:pPr lvl="1" marL="637560" indent="-21240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3.</a:t>
            </a:r>
            <a:r>
              <a:rPr b="0" lang="nb-NO" sz="1800" spc="-1" strike="noStrike">
                <a:solidFill>
                  <a:srgbClr val="000000"/>
                </a:solidFill>
                <a:latin typeface="Arial"/>
              </a:rPr>
              <a:t>	</a:t>
            </a:r>
            <a:r>
              <a:rPr b="0" lang="nb-NO" sz="1800" spc="-1" strike="noStrike">
                <a:solidFill>
                  <a:srgbClr val="000000"/>
                </a:solidFill>
                <a:latin typeface="Arial"/>
              </a:rPr>
              <a:t>ET FREMVIST KORT BLIR TRUKKET TILBAKE</a:t>
            </a:r>
            <a:br>
              <a:rPr sz="1800"/>
            </a:br>
            <a:br>
              <a:rPr sz="1800"/>
            </a:br>
            <a:r>
              <a:rPr b="0" lang="nb-NO" sz="1800" spc="-1" strike="noStrike">
                <a:solidFill>
                  <a:srgbClr val="000000"/>
                </a:solidFill>
                <a:latin typeface="Arial"/>
              </a:rPr>
              <a:t>Etter at en spiller har trukket tilbake et fremvist kort, kan en motstander som har gjort et påfølgende påspill til dette kortet, trekke sitt kort tilbake og bytte det ut med et annet uten straff (se §16C**).</a:t>
            </a:r>
            <a:br>
              <a:rPr sz="1800"/>
            </a:br>
            <a:br>
              <a:rPr sz="1400"/>
            </a:br>
            <a:r>
              <a:rPr b="0" lang="nb-NO" sz="1400" spc="-1" strike="noStrike">
                <a:solidFill>
                  <a:srgbClr val="000000"/>
                </a:solidFill>
                <a:latin typeface="Arial"/>
              </a:rPr>
              <a:t>**§16C sier at all informasjon som fremkommer ved at et slikt kort trekkes tilbake, er ulovlig for den feilendes makker.</a:t>
            </a:r>
            <a:endParaRPr b="1" lang="en-US" sz="1400" spc="-1" strike="noStrike">
              <a:solidFill>
                <a:srgbClr val="000000"/>
              </a:solidFill>
              <a:latin typeface="Arial"/>
            </a:endParaRPr>
          </a:p>
          <a:p>
            <a:pPr lvl="1" marL="637560" indent="-212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NÅR FEILEN IKKE BLIR OPPDAGET</a:t>
            </a:r>
            <a:endParaRPr b="1" lang="en-US" sz="1800" spc="-1" strike="noStrike">
              <a:solidFill>
                <a:srgbClr val="000000"/>
              </a:solidFill>
              <a:latin typeface="Arial"/>
            </a:endParaRPr>
          </a:p>
          <a:p>
            <a:pPr lvl="1" marL="637560" indent="-212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samtidige spill ikke blir oppdaget før begge sider har spilt til neste stikk, kommer §67 til anvendelse.</a:t>
            </a:r>
            <a:endParaRPr b="1"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59. PÅBUD OM UTSPILL ELLER SPILL SOM IKKE KAN ETTERKOMMES</a:t>
            </a:r>
            <a:endParaRPr b="1" i="1" lang="en-US" sz="2800" spc="-1" strike="noStrike">
              <a:solidFill>
                <a:srgbClr val="000000"/>
              </a:solidFill>
              <a:latin typeface="Arial"/>
            </a:endParaRPr>
          </a:p>
        </p:txBody>
      </p:sp>
      <p:sp>
        <p:nvSpPr>
          <p:cNvPr id="14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ikke er i stand til å gjøre et utspill eller påspill som han er pålagt som straff, enten fordi han ikke har noe kort i den fargen som forlanges, eller bare har kort i en farge som han er nektet å spille ut, eller fordi spilleren er nødt til å følge farge, kan han spille et hvilket som helst annet lovlig kort.</a:t>
            </a:r>
            <a:endParaRPr b="1"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0. SPILL ETTER ULOVLIG SPILL</a:t>
            </a:r>
            <a:endParaRPr b="1" i="1" lang="en-US" sz="2800" spc="-1" strike="noStrike">
              <a:solidFill>
                <a:srgbClr val="000000"/>
              </a:solidFill>
              <a:latin typeface="Arial"/>
            </a:endParaRPr>
          </a:p>
        </p:txBody>
      </p:sp>
      <p:sp>
        <p:nvSpPr>
          <p:cNvPr id="15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5000"/>
          </a:bodyPr>
          <a:p>
            <a:pPr marL="2714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 ETTER EN UREGELMESSIGHET</a:t>
            </a:r>
            <a:endParaRPr b="1" lang="en-US" sz="2400" spc="-1" strike="noStrike">
              <a:solidFill>
                <a:srgbClr val="000000"/>
              </a:solidFill>
              <a:latin typeface="Arial"/>
            </a:endParaRPr>
          </a:p>
          <a:p>
            <a:pPr lvl="1" marL="651240" indent="-21708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TTEN TIL STRAFF FORSPILLES</a:t>
            </a:r>
            <a:endParaRPr b="1" lang="en-US" sz="1800" spc="-1" strike="noStrike">
              <a:solidFill>
                <a:srgbClr val="000000"/>
              </a:solidFill>
              <a:latin typeface="Arial"/>
            </a:endParaRPr>
          </a:p>
          <a:p>
            <a:pPr lvl="1" marL="651240" indent="-21708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fra den ikke-feilende side spiller etter at HM har spilt ut eller spilt på utenfor tur eller for tidlig, men før det er tildelt en straff, forspilles retten til å få ilagt en straff for feilen.</a:t>
            </a:r>
            <a:endParaRPr b="1" lang="en-US" sz="1800" spc="-1" strike="noStrike">
              <a:solidFill>
                <a:srgbClr val="000000"/>
              </a:solidFill>
              <a:latin typeface="Arial"/>
            </a:endParaRPr>
          </a:p>
          <a:p>
            <a:pPr lvl="1" marL="651240" indent="-21708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REGELMESSIGHETEN BLIR LOVLIG</a:t>
            </a:r>
            <a:endParaRPr b="1" lang="en-US" sz="1800" spc="-1" strike="noStrike">
              <a:solidFill>
                <a:srgbClr val="000000"/>
              </a:solidFill>
              <a:latin typeface="Arial"/>
            </a:endParaRPr>
          </a:p>
          <a:p>
            <a:pPr lvl="1" marL="651240" indent="-21708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retten til å få ilagt straff er forspilt, blir det ulovlige spill behandlet som om det var skjedd i tur (men når det gjelder den spilleren som egentlig var i tur, kommer §53C til anvendelse).</a:t>
            </a:r>
            <a:endParaRPr b="1" lang="en-US" sz="1800" spc="-1" strike="noStrike">
              <a:solidFill>
                <a:srgbClr val="000000"/>
              </a:solidFill>
              <a:latin typeface="Arial"/>
            </a:endParaRPr>
          </a:p>
          <a:p>
            <a:pPr lvl="1" marL="651240" indent="-21708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TIDLIGERE BEGRENSNINGER PÅ GRUNN AV STRAFF STÅR FORTSATT VED MAKT</a:t>
            </a:r>
            <a:endParaRPr b="1" lang="en-US" sz="1800" spc="-1" strike="noStrike">
              <a:solidFill>
                <a:srgbClr val="000000"/>
              </a:solidFill>
              <a:latin typeface="Arial"/>
            </a:endParaRPr>
          </a:p>
          <a:p>
            <a:pPr lvl="1" marL="651240" indent="-21708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side tidligere er blitt pålagt å spille et straffe-kort eller etterkomme en spillestraff, står pålegget fortsatt ved makt.</a:t>
            </a:r>
            <a:endParaRPr b="1"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0. SPILL ETTER ULOVLIG SPILL</a:t>
            </a:r>
            <a:endParaRPr b="1" i="1" lang="en-US" sz="2800" spc="-1" strike="noStrike">
              <a:solidFill>
                <a:srgbClr val="000000"/>
              </a:solidFill>
              <a:latin typeface="Arial"/>
            </a:endParaRPr>
          </a:p>
        </p:txBody>
      </p:sp>
      <p:sp>
        <p:nvSpPr>
          <p:cNvPr id="15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MOTSPILLER SPILLER FØR SPILLEFØRER HAR GJORT ET PÅBUDT UTSPILL</a:t>
            </a:r>
            <a:endParaRPr b="1" lang="en-US" sz="2400" spc="-1" strike="noStrike">
              <a:solidFill>
                <a:srgbClr val="000000"/>
              </a:solidFill>
              <a:latin typeface="Arial"/>
            </a:endParaRPr>
          </a:p>
          <a:p>
            <a:pPr lvl="1" marL="671760" indent="-2239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spiller et kort etter at spilleføreren er blitt pålagt å trekke tilbake et utspill utenfor tur fra en av sine hender, men før spilleføreren har gjort utspillet fra den riktige hånd, blir motspillerens spilte kort straffekort (§50).</a:t>
            </a:r>
            <a:endParaRPr b="1" lang="en-US" sz="1800" spc="-1" strike="noStrike">
              <a:solidFill>
                <a:srgbClr val="000000"/>
              </a:solidFill>
              <a:latin typeface="Arial"/>
            </a:endParaRPr>
          </a:p>
          <a:p>
            <a:pPr marL="28008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DEN FEILENDE SIDE SPILLER FØR DET ER TILDELT STRAFF</a:t>
            </a:r>
            <a:endParaRPr b="1" lang="en-US" sz="2400" spc="-1" strike="noStrike">
              <a:solidFill>
                <a:srgbClr val="000000"/>
              </a:solidFill>
              <a:latin typeface="Arial"/>
            </a:endParaRPr>
          </a:p>
          <a:p>
            <a:pPr lvl="1" marL="671760" indent="-2239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fra den feilende side spiller før det er tildelt straff, påvirker det ikke motstandernes rettigheter, og selve spille kan også bli gjenstand for straff.</a:t>
            </a:r>
            <a:endParaRPr b="1"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1. UNNLATELSE AV Å FØLGE FARGE - FORESPØRSLER OM REVOKE</a:t>
            </a:r>
            <a:endParaRPr b="1" i="1" lang="en-US" sz="2800" spc="-1" strike="noStrike">
              <a:solidFill>
                <a:srgbClr val="000000"/>
              </a:solidFill>
              <a:latin typeface="Arial"/>
            </a:endParaRPr>
          </a:p>
        </p:txBody>
      </p:sp>
      <p:sp>
        <p:nvSpPr>
          <p:cNvPr id="15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0">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FINISJON AV REVOKE</a:t>
            </a:r>
            <a:br>
              <a:rPr sz="2400"/>
            </a:br>
            <a:r>
              <a:rPr b="1" lang="nb-NO" sz="1800" spc="-1" strike="noStrike">
                <a:solidFill>
                  <a:srgbClr val="000000"/>
                </a:solidFill>
                <a:latin typeface="Arial"/>
              </a:rPr>
              <a:t>Revoke inntrer når en spiller:</a:t>
            </a:r>
            <a:br>
              <a:rPr sz="1800"/>
            </a:br>
            <a:r>
              <a:rPr b="1" lang="nb-NO" sz="1800" spc="-1" strike="noStrike">
                <a:solidFill>
                  <a:srgbClr val="000000"/>
                </a:solidFill>
                <a:latin typeface="Arial"/>
              </a:rPr>
              <a:t>* unnlater å følge farge som beskrevet i §44C, eller </a:t>
            </a:r>
            <a:br>
              <a:rPr sz="1800"/>
            </a:br>
            <a:r>
              <a:rPr b="1" lang="nb-NO" sz="1800" spc="-1" strike="noStrike">
                <a:solidFill>
                  <a:srgbClr val="000000"/>
                </a:solidFill>
                <a:latin typeface="Arial"/>
              </a:rPr>
              <a:t>* unnlater å spille ut eller på et kort eller en farge som spilleren har, og som han er pålagt å spille enten i følge lovene, eller for å oppfylle en straff valgt av en motstander. </a:t>
            </a:r>
            <a:r>
              <a:rPr b="0" i="1" lang="nb-NO" sz="1800" spc="-1" strike="noStrike">
                <a:solidFill>
                  <a:srgbClr val="000000"/>
                </a:solidFill>
                <a:latin typeface="Arial"/>
              </a:rPr>
              <a:t>(Men, se også §59 når spilleren ikke er i stand til å etterkomme en straff.)</a:t>
            </a:r>
            <a:endParaRPr b="1" lang="en-US" sz="1800" spc="-1" strike="noStrike">
              <a:solidFill>
                <a:srgbClr val="000000"/>
              </a:solidFill>
              <a:latin typeface="Arial"/>
            </a:endParaRPr>
          </a:p>
          <a:p>
            <a:pPr marL="28008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TTEN TIL Å SPØRRE OM MULIG REVOKE</a:t>
            </a:r>
            <a:endParaRPr b="1" lang="en-US" sz="2400" spc="-1" strike="noStrike">
              <a:solidFill>
                <a:srgbClr val="000000"/>
              </a:solidFill>
              <a:latin typeface="Arial"/>
            </a:endParaRPr>
          </a:p>
          <a:p>
            <a:pPr lvl="1" marL="671760" indent="-2239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føreren kan spørre en motspiller som ikke har fulgt farge, om vedkommende har et kort i den utspilte farge </a:t>
            </a:r>
            <a:r>
              <a:rPr b="0" i="1" lang="nb-NO" sz="1800" spc="-1" strike="noStrike">
                <a:solidFill>
                  <a:srgbClr val="000000"/>
                </a:solidFill>
                <a:latin typeface="Arial"/>
              </a:rPr>
              <a:t>(men en påstand om at det er begått revoke, gir ikke automatisk rett til å se på ferdigspilte stikk - se §66C)</a:t>
            </a:r>
            <a:r>
              <a:rPr b="1" lang="nb-NO" sz="1800" spc="-1" strike="noStrike">
                <a:solidFill>
                  <a:srgbClr val="000000"/>
                </a:solidFill>
                <a:latin typeface="Arial"/>
              </a:rPr>
              <a:t>. Blindemann kan spørre spilleføreren </a:t>
            </a:r>
            <a:r>
              <a:rPr b="0" i="1" lang="nb-NO" sz="1800" spc="-1" strike="noStrike">
                <a:solidFill>
                  <a:srgbClr val="000000"/>
                </a:solidFill>
                <a:latin typeface="Arial"/>
              </a:rPr>
              <a:t>(men se §43B2b)</a:t>
            </a:r>
            <a:r>
              <a:rPr b="1" i="1" lang="nb-NO" sz="1800" spc="-1" strike="noStrike">
                <a:solidFill>
                  <a:srgbClr val="000000"/>
                </a:solidFill>
                <a:latin typeface="Arial"/>
              </a:rPr>
              <a:t>.</a:t>
            </a:r>
            <a:r>
              <a:rPr b="1" lang="nb-NO" sz="1800" spc="-1" strike="noStrike">
                <a:solidFill>
                  <a:srgbClr val="000000"/>
                </a:solidFill>
                <a:latin typeface="Arial"/>
              </a:rPr>
              <a:t> Motspillerne kan spørre spilleføreren, men ikke hverandre.</a:t>
            </a:r>
            <a:endParaRPr b="1"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2. KORRIGERING AV REVOKE</a:t>
            </a:r>
            <a:endParaRPr b="1" i="1" lang="en-US" sz="2800" spc="-1" strike="noStrike">
              <a:solidFill>
                <a:srgbClr val="000000"/>
              </a:solidFill>
              <a:latin typeface="Arial"/>
            </a:endParaRPr>
          </a:p>
        </p:txBody>
      </p:sp>
      <p:sp>
        <p:nvSpPr>
          <p:cNvPr id="15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EN REVOKE MÅ KORRIGERES</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må korrigere en revoke hvis han blir klar over den før den er blitt etablert.</a:t>
            </a:r>
            <a:endParaRPr b="1" lang="en-US" sz="1800" spc="-1" strike="noStrike">
              <a:solidFill>
                <a:srgbClr val="000000"/>
              </a:solidFill>
              <a:latin typeface="Arial"/>
            </a:endParaRPr>
          </a:p>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RIGERING AV REVOKE</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 å korrigere revoken trekker spilleren tilbake det kortet som var spilt da han revokerte og følger farge (med et hvilket som helst kor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MOTSPILLERS KOR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kort som trekkes tilbake på denne måten, blir straffekort (§50) hvis det ble spilt fra en motspillers hånd, og ikke på forhånd var snudd med fremsiden opp.</a:t>
            </a:r>
            <a:endParaRPr b="1"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2. KORRIGERING AV REVOKE</a:t>
            </a:r>
            <a:endParaRPr b="1" i="1" lang="en-US" sz="2800" spc="-1" strike="noStrike">
              <a:solidFill>
                <a:srgbClr val="000000"/>
              </a:solidFill>
              <a:latin typeface="Arial"/>
            </a:endParaRPr>
          </a:p>
        </p:txBody>
      </p:sp>
      <p:sp>
        <p:nvSpPr>
          <p:cNvPr id="15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PILLEFØRERS KORT, BLINDEMANNS KORT SAMT MOTSPILLERS KOR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rtet kan trekkes tilbake uten straff hvis det ble spilt fra spilleførerens eller blindemanns hånd*, eller hvis det var en motspillers kort som på forhånd var snudd med fremsiden opp.</a:t>
            </a:r>
            <a:endParaRPr b="1" lang="en-US" sz="1800" spc="-1" strike="noStrike">
              <a:solidFill>
                <a:srgbClr val="000000"/>
              </a:solidFill>
              <a:latin typeface="Arial"/>
            </a:endParaRPr>
          </a:p>
          <a:p>
            <a:pPr lvl="1" marL="685800" indent="-22860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er kan også §43B2c komme til anvendelse dersom blindemann har forspilt sine rettigheter. En påstand om at det er begått revoke, gir ikke rett til å granske ferdigspilte stikk, unntatt når det er tillatt ifølge §66C.</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2. KORRIGERING AV REVOKE</a:t>
            </a:r>
            <a:endParaRPr b="1" i="1" lang="en-US" sz="2800" spc="-1" strike="noStrike">
              <a:solidFill>
                <a:srgbClr val="000000"/>
              </a:solidFill>
              <a:latin typeface="Arial"/>
            </a:endParaRPr>
          </a:p>
        </p:txBody>
      </p:sp>
      <p:sp>
        <p:nvSpPr>
          <p:cNvPr id="16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4000"/>
          </a:bodyPr>
          <a:p>
            <a:pPr marL="26856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PÅFØLGENDE KORT SOM SPILLES TIL STIKKET</a:t>
            </a:r>
            <a:endParaRPr b="1" lang="en-US" sz="2400" spc="-1" strike="noStrike">
              <a:solidFill>
                <a:srgbClr val="000000"/>
              </a:solidFill>
              <a:latin typeface="Arial"/>
            </a:endParaRPr>
          </a:p>
          <a:p>
            <a:pPr lvl="1" marL="644400" indent="-214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V DEN IKKE-FEILENDE SIDE</a:t>
            </a:r>
            <a:endParaRPr b="1" lang="en-US" sz="1800" spc="-1" strike="noStrike">
              <a:solidFill>
                <a:srgbClr val="000000"/>
              </a:solidFill>
              <a:latin typeface="Arial"/>
            </a:endParaRPr>
          </a:p>
          <a:p>
            <a:pPr lvl="1" marL="644400" indent="-214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egge fra den ikke-feilende side kan uten straff trekke tilbake ethvert kort de måtte ha spilt etter revoken, men før den ble påtalt (se §16C**).</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V DEN FEILENDES MAKKER</a:t>
            </a:r>
            <a:endParaRPr b="1" lang="en-US" sz="1800" spc="-1" strike="noStrike">
              <a:solidFill>
                <a:srgbClr val="000000"/>
              </a:solidFill>
              <a:latin typeface="Arial"/>
            </a:endParaRPr>
          </a:p>
          <a:p>
            <a:pPr lvl="1" marL="644400" indent="-214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ikke-feilende spiller har trukket tilbake et kort i samsvar med pkt. 1 ovenfor, kan den av spillerne på den feilende side som står nærmest for tur, også trekke tilbake sitt spilte kort. Dersom han er motspiller, blir det tilbaketrukne kort straffekort (se §16C**).</a:t>
            </a:r>
            <a:endParaRPr b="1" lang="en-US" sz="1800" spc="-1" strike="noStrike">
              <a:solidFill>
                <a:srgbClr val="000000"/>
              </a:solidFill>
              <a:latin typeface="Arial"/>
            </a:endParaRPr>
          </a:p>
          <a:p>
            <a:pPr lvl="1" marL="644400" indent="-21456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16C sier at all informasjon som fremkommer ved at et slikt kort trekkes tilbake, er ulovlig for den feilendes makker.</a:t>
            </a:r>
            <a:endParaRPr b="1" lang="en-US" sz="1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2. KORRIGERING AV REVOKE</a:t>
            </a:r>
            <a:endParaRPr b="1" i="1" lang="en-US" sz="2800" spc="-1" strike="noStrike">
              <a:solidFill>
                <a:srgbClr val="000000"/>
              </a:solidFill>
              <a:latin typeface="Arial"/>
            </a:endParaRPr>
          </a:p>
        </p:txBody>
      </p:sp>
      <p:sp>
        <p:nvSpPr>
          <p:cNvPr id="16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REVOKE I TOLVTE STIKK</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VOKEN MÅ KORRIGERES</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revoke i tolvte stikk må korrigeres selv om den er etablert, hvis den oppdages før alle fire hendene er lagt tilbake i mappen.</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REVOKEN SKJER FØR DEN FEILENDES MAKKER HAR SPILT TIL TOLVTE STIKK</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motspiller begår revoke før det har vært hans makkers tur til å spille til tolvte stikk, og den feilendes makker har kort i to farger, kan ikke den feilendes makker velge et påspill som fremstår som mer fordelaktig etter at spilleren har sett revokekortet.</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3. BLINDEMANNS BEGRENSNINGER</a:t>
            </a:r>
            <a:endParaRPr b="1" i="1" lang="en-US" sz="2800" spc="-1" strike="noStrike">
              <a:solidFill>
                <a:srgbClr val="000000"/>
              </a:solidFill>
              <a:latin typeface="Arial"/>
            </a:endParaRPr>
          </a:p>
        </p:txBody>
      </p:sp>
      <p:sp>
        <p:nvSpPr>
          <p:cNvPr id="5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4000"/>
          </a:bodyPr>
          <a:p>
            <a:pPr marL="26856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BEGRENSNINGER AV BLINDEMANNS AKTIVITET</a:t>
            </a:r>
            <a:endParaRPr b="1" lang="en-US" sz="2400" spc="-1" strike="noStrike">
              <a:solidFill>
                <a:srgbClr val="000000"/>
              </a:solidFill>
              <a:latin typeface="Arial"/>
            </a:endParaRPr>
          </a:p>
          <a:p>
            <a:pPr lvl="1" marL="644400" indent="-214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GENERELLE BEGRENSNINGER</a:t>
            </a:r>
            <a:endParaRPr b="1" lang="en-US" sz="1800" spc="-1" strike="noStrike">
              <a:solidFill>
                <a:srgbClr val="000000"/>
              </a:solidFill>
              <a:latin typeface="Arial"/>
            </a:endParaRPr>
          </a:p>
          <a:p>
            <a:pPr lvl="1" marL="644400" indent="-214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TILKALLING AV TURNERINGSLEDER</a:t>
            </a:r>
            <a:endParaRPr b="1" lang="en-US" sz="1800" spc="-1" strike="noStrike">
              <a:solidFill>
                <a:srgbClr val="000000"/>
              </a:solidFill>
              <a:latin typeface="Arial"/>
            </a:endParaRPr>
          </a:p>
          <a:p>
            <a:pPr lvl="1" marL="644400" indent="-214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ed mindre en annen spiller har gjort oppmerksom på en uregelmessighet, bør blindemann ikke ta initiativ til å tilkalle TL under spilleforløpet.</a:t>
            </a:r>
            <a:endParaRPr b="1" lang="en-US" sz="1800" spc="-1" strike="noStrike">
              <a:solidFill>
                <a:srgbClr val="000000"/>
              </a:solidFill>
              <a:latin typeface="Arial"/>
            </a:endParaRPr>
          </a:p>
          <a:p>
            <a:pPr lvl="1" marL="644400" indent="-214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PÅTALE AV UREGELMESSIGHET</a:t>
            </a:r>
            <a:endParaRPr b="1" lang="en-US" sz="1800" spc="-1" strike="noStrike">
              <a:solidFill>
                <a:srgbClr val="000000"/>
              </a:solidFill>
              <a:latin typeface="Arial"/>
            </a:endParaRPr>
          </a:p>
          <a:p>
            <a:pPr lvl="1" marL="644400" indent="-214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påtale en uregelmessighet under spillet.</a:t>
            </a:r>
            <a:endParaRPr b="1" lang="en-US" sz="1800" spc="-1" strike="noStrike">
              <a:solidFill>
                <a:srgbClr val="000000"/>
              </a:solidFill>
              <a:latin typeface="Arial"/>
            </a:endParaRPr>
          </a:p>
          <a:p>
            <a:pPr lvl="1" marL="644400" indent="-21456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DELTAGELSE I ELLER KOMMENTAR TIL SPILLET</a:t>
            </a:r>
            <a:br>
              <a:rPr sz="1800"/>
            </a:br>
            <a:br>
              <a:rPr sz="1800"/>
            </a:br>
            <a:r>
              <a:rPr b="0" lang="nb-NO" sz="1800" spc="-1" strike="noStrike">
                <a:solidFill>
                  <a:srgbClr val="000000"/>
                </a:solidFill>
                <a:latin typeface="Arial"/>
              </a:rPr>
              <a:t>Blindemann må ikke delta i spillet. Han kan heller ikke komme med noen kommentarer om spillet til spillefører.</a:t>
            </a:r>
            <a:endParaRPr b="1" lang="en-US" sz="1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3. ETABLERING AV REVOKE</a:t>
            </a:r>
            <a:endParaRPr b="1" i="1" lang="en-US" sz="2800" spc="-1" strike="noStrike">
              <a:solidFill>
                <a:srgbClr val="000000"/>
              </a:solidFill>
              <a:latin typeface="Arial"/>
            </a:endParaRPr>
          </a:p>
        </p:txBody>
      </p:sp>
      <p:sp>
        <p:nvSpPr>
          <p:cNvPr id="16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89000"/>
          </a:bodyPr>
          <a:p>
            <a:pPr marL="25416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VOKEN BLIR ETABLERT</a:t>
            </a:r>
            <a:endParaRPr b="1" lang="en-US" sz="2400" spc="-1" strike="noStrike">
              <a:solidFill>
                <a:srgbClr val="000000"/>
              </a:solidFill>
              <a:latin typeface="Arial"/>
            </a:endParaRPr>
          </a:p>
          <a:p>
            <a:pPr lvl="1" marL="610200" indent="-203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FEILENDE SIDE SPILLER UT ELLER SPILLER TIL NESTE STIKK</a:t>
            </a:r>
            <a:endParaRPr b="1" lang="en-US" sz="1800" spc="-1" strike="noStrike">
              <a:solidFill>
                <a:srgbClr val="000000"/>
              </a:solidFill>
              <a:latin typeface="Arial"/>
            </a:endParaRPr>
          </a:p>
          <a:p>
            <a:pPr lvl="1" marL="610200" indent="-203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n feilende eller hans makker spiller ut eller spiller til det påfølgende stikk </a:t>
            </a:r>
            <a:r>
              <a:rPr b="0" i="1" lang="nb-NO" sz="1800" spc="-1" strike="noStrike">
                <a:solidFill>
                  <a:srgbClr val="000000"/>
                </a:solidFill>
                <a:latin typeface="Arial"/>
              </a:rPr>
              <a:t>(ethvert spill etablerer revoken, uansett om det er lovlig eller ikke).</a:t>
            </a:r>
            <a:endParaRPr b="1" lang="en-US" sz="1800" spc="-1" strike="noStrike">
              <a:solidFill>
                <a:srgbClr val="000000"/>
              </a:solidFill>
              <a:latin typeface="Arial"/>
            </a:endParaRPr>
          </a:p>
          <a:p>
            <a:pPr lvl="1" marL="610200" indent="-203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EN SPILLER FRA DEN FEILENDE SIDE ANGIR ET UTSPILL ELLER SPILL</a:t>
            </a:r>
            <a:br>
              <a:rPr sz="1800"/>
            </a:br>
            <a:r>
              <a:rPr b="0" lang="nb-NO" sz="1800" spc="-1" strike="noStrike">
                <a:solidFill>
                  <a:srgbClr val="000000"/>
                </a:solidFill>
                <a:latin typeface="Arial"/>
              </a:rPr>
              <a:t>Når den feilende eller hans makker nevner eller på en annen måte angir et kort som skal spilles til det påfølgende stikk.</a:t>
            </a:r>
            <a:endParaRPr b="1" lang="en-US" sz="1800" spc="-1" strike="noStrike">
              <a:solidFill>
                <a:srgbClr val="000000"/>
              </a:solidFill>
              <a:latin typeface="Arial"/>
            </a:endParaRPr>
          </a:p>
          <a:p>
            <a:pPr lvl="1" marL="610200" indent="-203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EN SPILLER FRA DEN FEILENDE SIDE GJØR ET KRAV ELLER EN AVSTÅELSE</a:t>
            </a:r>
            <a:endParaRPr b="1" lang="en-US" sz="1800" spc="-1" strike="noStrike">
              <a:solidFill>
                <a:srgbClr val="000000"/>
              </a:solidFill>
              <a:latin typeface="Arial"/>
            </a:endParaRPr>
          </a:p>
          <a:p>
            <a:pPr lvl="1" marL="610200" indent="-203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spiller fra den feilende side gjør eller godtar et krav eller en avståelse av stikk, muntlig eller ved å snu sin hånd med fremsiden opp </a:t>
            </a:r>
            <a:r>
              <a:rPr b="0" i="1" lang="nb-NO" sz="1800" spc="-1" strike="noStrike">
                <a:solidFill>
                  <a:srgbClr val="000000"/>
                </a:solidFill>
                <a:latin typeface="Arial"/>
              </a:rPr>
              <a:t>(eller på noen som helst annen måte)</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3. ETABLERING AV REVOKE</a:t>
            </a:r>
            <a:endParaRPr b="1" i="1" lang="en-US" sz="2800" spc="-1" strike="noStrike">
              <a:solidFill>
                <a:srgbClr val="000000"/>
              </a:solidFill>
              <a:latin typeface="Arial"/>
            </a:endParaRPr>
          </a:p>
        </p:txBody>
      </p:sp>
      <p:sp>
        <p:nvSpPr>
          <p:cNvPr id="16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N ER FEILAKTIG PÅTALT</a:t>
            </a:r>
            <a:endParaRPr b="1" lang="en-US" sz="2400" spc="-1" strike="noStrike">
              <a:solidFill>
                <a:srgbClr val="000000"/>
              </a:solidFill>
              <a:latin typeface="Arial"/>
            </a:endParaRPr>
          </a:p>
          <a:p>
            <a:pPr marL="285840" indent="0">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G Times"/>
              </a:rPr>
              <a:t>	</a:t>
            </a:r>
            <a:r>
              <a:rPr b="1" lang="nb-NO" sz="1800" spc="-1" strike="noStrike">
                <a:solidFill>
                  <a:srgbClr val="000000"/>
                </a:solidFill>
                <a:latin typeface="Arial"/>
              </a:rPr>
              <a:t>Når det har skjedd et brudd på §61B, må den som revokerte erstatte revokekortet med et lovlig kort, men straffen etter §64 gjelder som om revoken hadde blitt etablert.</a:t>
            </a:r>
            <a:br>
              <a:rPr sz="1800"/>
            </a:br>
            <a:endParaRPr b="1" lang="en-US" sz="1800" spc="-1" strike="noStrike">
              <a:solidFill>
                <a:srgbClr val="000000"/>
              </a:solidFill>
              <a:latin typeface="Arial"/>
            </a:endParaRPr>
          </a:p>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ETABLERT REVOKE KAN IKKE KORRIGERES</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revoke først er blitt etablert, kan den ikke lenger korrigeres (unntatt som beskrevet i §62D, som gjelder revoke i tolvte stikk), og stikket der revoken skjedde, blir stående som det ble spilt (men se §43B2b).</a:t>
            </a:r>
            <a:endParaRPr b="1"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4. FREMGANGSMÅTEN ETTER AT EN REVOKE ER BLITT ETABLERT</a:t>
            </a:r>
            <a:endParaRPr b="1" i="1" lang="en-US" sz="2800" spc="-1" strike="noStrike">
              <a:solidFill>
                <a:srgbClr val="000000"/>
              </a:solidFill>
              <a:latin typeface="Arial"/>
            </a:endParaRPr>
          </a:p>
        </p:txBody>
      </p:sp>
      <p:sp>
        <p:nvSpPr>
          <p:cNvPr id="168" name="PlaceHolder 2"/>
          <p:cNvSpPr>
            <a:spLocks noGrp="1"/>
          </p:cNvSpPr>
          <p:nvPr>
            <p:ph/>
          </p:nvPr>
        </p:nvSpPr>
        <p:spPr>
          <a:xfrm>
            <a:off x="990720" y="1905120"/>
            <a:ext cx="7162560" cy="4114800"/>
          </a:xfrm>
          <a:prstGeom prst="rect">
            <a:avLst/>
          </a:prstGeom>
          <a:noFill/>
          <a:ln w="0">
            <a:noFill/>
          </a:ln>
        </p:spPr>
        <p:txBody>
          <a:bodyPr lIns="90360" rIns="90360" tIns="44280" bIns="44280" anchor="t">
            <a:normAutofit fontScale="93000"/>
          </a:bodyPr>
          <a:p>
            <a:pPr marL="265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ILDELING AV STRAFF</a:t>
            </a:r>
            <a:endParaRPr b="1" lang="en-US" sz="2400" spc="-1" strike="noStrike">
              <a:solidFill>
                <a:srgbClr val="000000"/>
              </a:solidFill>
              <a:latin typeface="Arial"/>
            </a:endParaRPr>
          </a:p>
          <a:p>
            <a:pPr lvl="1" marL="637560" indent="-212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VOKESTIKKET BLE VUNNET AV DEN FEILENDE SPILLER</a:t>
            </a:r>
            <a:endParaRPr b="1" lang="en-US" sz="1800" spc="-1" strike="noStrike">
              <a:solidFill>
                <a:srgbClr val="000000"/>
              </a:solidFill>
              <a:latin typeface="Arial"/>
            </a:endParaRPr>
          </a:p>
          <a:p>
            <a:pPr lvl="1" marL="637560" indent="-212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som stikket der revoken skjedde, ble vunnet av den feilende spiller, vil stikket der revoken skjedde pluss ett av eventuelle påfølgende stikk vunnet av den feilende side, som straff bli overført til den ikke-feilende side etter at spillet er ferdig.</a:t>
            </a:r>
            <a:endParaRPr b="1" lang="en-US" sz="1800" spc="-1" strike="noStrike">
              <a:solidFill>
                <a:srgbClr val="000000"/>
              </a:solidFill>
              <a:latin typeface="Arial"/>
            </a:endParaRPr>
          </a:p>
          <a:p>
            <a:pPr lvl="1" marL="637560" indent="-212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REVOKESTIKKET BLE IKKE VUNNET AV DEN FEILENDE SPILLER</a:t>
            </a:r>
            <a:endParaRPr b="1" lang="en-US" sz="1800" spc="-1" strike="noStrike">
              <a:solidFill>
                <a:srgbClr val="000000"/>
              </a:solidFill>
              <a:latin typeface="Arial"/>
            </a:endParaRPr>
          </a:p>
          <a:p>
            <a:pPr lvl="1" marL="637560" indent="-212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som stikket der revoken skjedde, ikke ble vunnet av den feilende spiller, så skal - dersom stikket eller noen av de følgende stikk ble vunnet av den feilende side - som straff, ett stikk overføres til den ikke-feilende side etter at spillet er ferdig. Hvis den feilende spiller senere vant et annet stikk med et kort som lovlig kunne vært spilt til stikket der revoken ble begått, skal også dette stikket overføres til den ikke-feilende side.</a:t>
            </a:r>
            <a:endParaRPr b="1"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4. FREMGANGSMÅTEN ETTER AT EN REVOKE ER BLITT ETABLERT</a:t>
            </a:r>
            <a:endParaRPr b="1" i="1" lang="en-US" sz="2800" spc="-1" strike="noStrike">
              <a:solidFill>
                <a:srgbClr val="000000"/>
              </a:solidFill>
              <a:latin typeface="Arial"/>
            </a:endParaRPr>
          </a:p>
        </p:txBody>
      </p:sp>
      <p:sp>
        <p:nvSpPr>
          <p:cNvPr id="17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1000"/>
          </a:bodyPr>
          <a:p>
            <a:pPr marL="259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INGEN TILDELING AV STRAFF</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blir ingen straff:</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N FEILENDE SIDE VINNER HVERKEN REVOKESTIKKET ELLER NOE PÅFØLGENDE STIKK</a:t>
            </a:r>
            <a:br>
              <a:rPr sz="1800"/>
            </a:br>
            <a:r>
              <a:rPr b="0" lang="nb-NO" sz="1800" spc="-1" strike="noStrike">
                <a:solidFill>
                  <a:srgbClr val="000000"/>
                </a:solidFill>
                <a:latin typeface="Arial"/>
              </a:rPr>
              <a:t>Hvis den feilende side vinner hverken revokestikket eller noen påfølgende stikk.</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FEILENDE REVOKERER PÅ NYTT I SAMME FARGE</a:t>
            </a:r>
            <a:br>
              <a:rPr sz="1800"/>
            </a:br>
            <a:r>
              <a:rPr b="0" lang="nb-NO" sz="1800" spc="-1" strike="noStrike">
                <a:solidFill>
                  <a:srgbClr val="000000"/>
                </a:solidFill>
                <a:latin typeface="Arial"/>
              </a:rPr>
              <a:t>For en ny revoke som den samme spiller senere begår i samme farge**.</a:t>
            </a:r>
            <a:endParaRPr b="1" lang="en-US" sz="1800" spc="-1" strike="noStrike">
              <a:solidFill>
                <a:srgbClr val="000000"/>
              </a:solidFill>
              <a:latin typeface="Arial"/>
            </a:endParaRPr>
          </a:p>
          <a:p>
            <a:pPr lvl="1" marL="623880" indent="-20772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en den første revoken straffes på vanlig måte.</a:t>
            </a:r>
            <a:endParaRPr b="1" lang="en-US" sz="1400" spc="-1" strike="noStrike">
              <a:solidFill>
                <a:srgbClr val="000000"/>
              </a:solidFill>
              <a:latin typeface="Arial"/>
            </a:endParaRPr>
          </a:p>
          <a:p>
            <a:pPr lvl="1" marL="623880" indent="-2077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REVOKEN VAR EN UNNLATELSE AV Å SPILLE ET KORT SOM LÅ PÅ BORDET MED FRAMSIDEN OPP</a:t>
            </a:r>
            <a:br>
              <a:rPr sz="1800"/>
            </a:br>
            <a:r>
              <a:rPr b="0" lang="nb-NO" sz="1800" spc="-1" strike="noStrike">
                <a:solidFill>
                  <a:srgbClr val="000000"/>
                </a:solidFill>
                <a:latin typeface="Arial"/>
              </a:rPr>
              <a:t>Hvis revoken ble begått ved at en spiller unnlot å spille et kort som lå på bordet med fremsiden opp, eller tilhørte en hånd som lå på bordet med fremsiden opp, innbefattet kort på blindemanns hånd.</a:t>
            </a:r>
            <a:endParaRPr b="1"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4. FREMGANGSMÅTEN ETTER AT EN REVOKE ER BLITT ETABLERT</a:t>
            </a:r>
            <a:endParaRPr b="1" i="1" lang="en-US" sz="2800" spc="-1" strike="noStrike">
              <a:solidFill>
                <a:srgbClr val="000000"/>
              </a:solidFill>
              <a:latin typeface="Arial"/>
            </a:endParaRPr>
          </a:p>
        </p:txBody>
      </p:sp>
      <p:sp>
        <p:nvSpPr>
          <p:cNvPr id="17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2000"/>
          </a:bodyPr>
          <a:p>
            <a:pPr lvl="1" marL="630720" indent="-21024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DEN IKKE-FEILENDE SIDE HAR MELDT PÅ NESTE GIV</a:t>
            </a:r>
            <a:endParaRPr b="1" lang="en-US" sz="1800" spc="-1" strike="noStrike">
              <a:solidFill>
                <a:srgbClr val="000000"/>
              </a:solidFill>
              <a:latin typeface="Arial"/>
            </a:endParaRPr>
          </a:p>
          <a:p>
            <a:pPr lvl="1" marL="630720" indent="-21024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revoken først ble påtalt etter at en spiller på den ikke-feilende side har avgitt en melding på den påfølgende giv.</a:t>
            </a:r>
            <a:endParaRPr b="1" lang="en-US" sz="1800" spc="-1" strike="noStrike">
              <a:solidFill>
                <a:srgbClr val="000000"/>
              </a:solidFill>
              <a:latin typeface="Arial"/>
            </a:endParaRPr>
          </a:p>
          <a:p>
            <a:pPr lvl="1" marL="630720" indent="-21024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RUNDEN ER AVSLUTTET</a:t>
            </a:r>
            <a:endParaRPr b="1" lang="en-US" sz="1800" spc="-1" strike="noStrike">
              <a:solidFill>
                <a:srgbClr val="000000"/>
              </a:solidFill>
              <a:latin typeface="Arial"/>
            </a:endParaRPr>
          </a:p>
          <a:p>
            <a:pPr lvl="1" marL="630720" indent="-21024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revoken ble påtalt først etter at runden er avsluttet.</a:t>
            </a:r>
            <a:endParaRPr b="1" lang="en-US" sz="1800" spc="-1" strike="noStrike">
              <a:solidFill>
                <a:srgbClr val="000000"/>
              </a:solidFill>
              <a:latin typeface="Arial"/>
            </a:endParaRPr>
          </a:p>
          <a:p>
            <a:pPr lvl="1" marL="630720" indent="-21024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REVOKEN SKJEDDE I TOLVTE STIKK</a:t>
            </a:r>
            <a:endParaRPr b="1" lang="en-US" sz="1800" spc="-1" strike="noStrike">
              <a:solidFill>
                <a:srgbClr val="000000"/>
              </a:solidFill>
              <a:latin typeface="Arial"/>
            </a:endParaRPr>
          </a:p>
          <a:p>
            <a:pPr lvl="1" marL="630720" indent="-21024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 revoke som er begått i tolvte stikk.</a:t>
            </a:r>
            <a:endParaRPr b="1" lang="en-US" sz="1800" spc="-1" strike="noStrike">
              <a:solidFill>
                <a:srgbClr val="000000"/>
              </a:solidFill>
              <a:latin typeface="Arial"/>
            </a:endParaRPr>
          </a:p>
          <a:p>
            <a:pPr marL="262800" indent="0">
              <a:lnSpc>
                <a:spcPct val="90000"/>
              </a:lnSpc>
              <a:spcBef>
                <a:spcPts val="90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URNERINGSLEDER ER ANSVARLIG FOR RETTFERDIG RESULTAT</a:t>
            </a:r>
            <a:endParaRPr b="1" lang="en-US" sz="2400" spc="-1" strike="noStrike">
              <a:solidFill>
                <a:srgbClr val="000000"/>
              </a:solidFill>
              <a:latin typeface="Arial"/>
            </a:endParaRPr>
          </a:p>
          <a:p>
            <a:pPr lvl="1" marL="630720" indent="-21024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turneringslederen etter enhver etablert revoke - også revoke som ikke er gjenstand for straff - finner at den ikke-feilende side ifølge denne paragraf ikke har fått tilstrekkelig erstatning for den skade de har lidd, skal han tildele et justert resultat.</a:t>
            </a:r>
            <a:endParaRPr b="1"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5. ORDNING AV STIKKENE</a:t>
            </a:r>
            <a:endParaRPr b="1" i="1" lang="en-US" sz="2800" spc="-1" strike="noStrike">
              <a:solidFill>
                <a:srgbClr val="000000"/>
              </a:solidFill>
              <a:latin typeface="Arial"/>
            </a:endParaRPr>
          </a:p>
        </p:txBody>
      </p:sp>
      <p:sp>
        <p:nvSpPr>
          <p:cNvPr id="17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ERDIGSPILTE STIKK</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er spilt fire kort til et stikk, snur hver av spillerne sitt eget kort med fremsiden ned foran seg på bordet.</a:t>
            </a:r>
            <a:endParaRPr b="1" lang="en-US" sz="1800" spc="-1" strike="noStrike">
              <a:solidFill>
                <a:srgbClr val="000000"/>
              </a:solidFill>
              <a:latin typeface="Arial"/>
            </a:endParaRPr>
          </a:p>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ARKERING AV STIKK</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VUNNE STIKK</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rens side har vunnet stikket, legges kortet med lengderetningen pekende mot makker.</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TAPTE STIKK</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motstanderne har vunnet stikket, legges kortet med lengderetningen pekende mot motstanderne.</a:t>
            </a:r>
            <a:endParaRPr b="1"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5. ORDNING AV STIKKENE</a:t>
            </a:r>
            <a:endParaRPr b="1" i="1" lang="en-US" sz="2800" spc="-1" strike="noStrike">
              <a:solidFill>
                <a:srgbClr val="000000"/>
              </a:solidFill>
              <a:latin typeface="Arial"/>
            </a:endParaRPr>
          </a:p>
        </p:txBody>
      </p:sp>
      <p:sp>
        <p:nvSpPr>
          <p:cNvPr id="17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ORDEN</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av spillerne ordner sine egne kort i god orden, i en rekke der kortene overlapper hverandre i den rekkefølge de er spilt - slik at det kan foretas en gjennomgang av spillet etter at det er fullført, for om nødvendig å fastsette hvor mange stikk hver av sidene har funnet, eller i hvilken rekkefølge kortene er spilt.</a:t>
            </a:r>
            <a:endParaRPr b="1" lang="en-US" sz="1800" spc="-1" strike="noStrike">
              <a:solidFill>
                <a:srgbClr val="000000"/>
              </a:solidFill>
              <a:latin typeface="Arial"/>
            </a:endParaRPr>
          </a:p>
          <a:p>
            <a:pPr marL="285840" indent="0">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NIGHET OM RESULTATET AV SPILLET</a:t>
            </a:r>
            <a:br>
              <a:rPr sz="2400"/>
            </a:br>
            <a:br>
              <a:rPr sz="2400"/>
            </a:br>
            <a:r>
              <a:rPr b="1" lang="nb-NO" sz="1800" spc="-1" strike="noStrike">
                <a:solidFill>
                  <a:srgbClr val="000000"/>
                </a:solidFill>
                <a:latin typeface="Arial"/>
              </a:rPr>
              <a:t>En spiller skal ikke bringe uorden i sine kort før det er oppnådd enighet om hvor mange stikk hver av sidene har vunnet. En spiller som ikke oppfyller dette kravet, forspiller sin rett til å gjøre krav på omstridte stikk eller til å fremsette påstand om revok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6. GRANSKING AV STIKK</a:t>
            </a:r>
            <a:endParaRPr b="1" i="1" lang="en-US" sz="2800" spc="-1" strike="noStrike">
              <a:solidFill>
                <a:srgbClr val="000000"/>
              </a:solidFill>
              <a:latin typeface="Arial"/>
            </a:endParaRPr>
          </a:p>
        </p:txBody>
      </p:sp>
      <p:sp>
        <p:nvSpPr>
          <p:cNvPr id="17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INNEVÆRENDE STIKK</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å lenge spillerens egen side ikke har spilt ut eller spilt til neste stikk, kan spilleføreren, eller hver av motspillerne, før han har snudd sitt eget spilte kort med fremsiden ned, forlange at alle kortene som er spilt til stikket, blir snudd med fremsiden opp.</a:t>
            </a:r>
            <a:endParaRPr b="1" lang="en-US" sz="1800" spc="-1" strike="noStrike">
              <a:solidFill>
                <a:srgbClr val="000000"/>
              </a:solidFill>
              <a:latin typeface="Arial"/>
            </a:endParaRPr>
          </a:p>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GET SIST SPILTE KORT</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 det er spilt ut til neste stikk, kan spilleføreren, eller hver av motspillerne, se på, men ikke vise frem, sitt eget sist spilte kort.</a:t>
            </a:r>
            <a:br>
              <a:rPr sz="1800"/>
            </a:br>
            <a:r>
              <a:rPr b="1" lang="nb-NO"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6. GRANSKING AV STIKK</a:t>
            </a:r>
            <a:endParaRPr b="1" i="1" lang="en-US" sz="2800" spc="-1" strike="noStrike">
              <a:solidFill>
                <a:srgbClr val="000000"/>
              </a:solidFill>
              <a:latin typeface="Arial"/>
            </a:endParaRPr>
          </a:p>
        </p:txBody>
      </p:sp>
      <p:sp>
        <p:nvSpPr>
          <p:cNvPr id="18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RDIGSPILTE STIKK</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retter kan ferdigspilte stikk ikke granskes før spillet er ferdig (bortsett fra på særskilt instruks fra TL, for eksempel for å få undersøkt en påstand om revoke).</a:t>
            </a:r>
            <a:endParaRPr b="1" lang="en-US" sz="1800" spc="-1" strike="noStrike">
              <a:solidFill>
                <a:srgbClr val="000000"/>
              </a:solidFill>
              <a:latin typeface="Arial"/>
            </a:endParaRPr>
          </a:p>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TTER AT SPILLET ER FULLFØRT</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Rounded MT Bold"/>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Rounded MT Bold"/>
              </a:rPr>
              <a:t>Etter at spillet er fullført, kan spilte og uspilte kort granskes for å undersøke en påstand om revoke, eller for å fastslå antallet av tapte og vunne stikk. Men ingen av spillerne kan berøre andre kort enn sine egne. Hvis en spiller etter at det er fremsatt en slik påstand, blander sine kort på en slik måte at TL ikke lenger kan bringe de faktiske forhold på det rene, skal TL dømme til fordel for den andre side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7. IRREGULÆRE STIKK</a:t>
            </a:r>
            <a:endParaRPr b="1" i="1" lang="en-US" sz="2800" spc="-1" strike="noStrike">
              <a:solidFill>
                <a:srgbClr val="000000"/>
              </a:solidFill>
              <a:latin typeface="Arial"/>
            </a:endParaRPr>
          </a:p>
        </p:txBody>
      </p:sp>
      <p:sp>
        <p:nvSpPr>
          <p:cNvPr id="18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ØR BEGGE SIDER HAR SPILT TIL NESTE STIKK</a:t>
            </a:r>
            <a:endParaRPr b="1" lang="en-US" sz="2400" spc="-1" strike="noStrike">
              <a:solidFill>
                <a:srgbClr val="000000"/>
              </a:solidFill>
              <a:latin typeface="Arial"/>
            </a:endParaRPr>
          </a:p>
          <a:p>
            <a:pPr lvl="1" marL="671760" indent="-2239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har unnlatt å spille til et stikk, eller har spilt for mange kort til et stikk, må feilen korrigeres hvis den blir påtalt før en spiller fra hver side har spilt til påfølgende stikk.</a:t>
            </a:r>
            <a:endParaRPr b="1" lang="en-US" sz="1800" spc="-1" strike="noStrike">
              <a:solidFill>
                <a:srgbClr val="000000"/>
              </a:solidFill>
              <a:latin typeface="Arial"/>
            </a:endParaRPr>
          </a:p>
          <a:p>
            <a:pPr lvl="1" marL="671760" indent="-2239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REN HAR UNNLATT Å SPILLE ET KORT</a:t>
            </a:r>
            <a:endParaRPr b="1" lang="en-US" sz="1800" spc="-1" strike="noStrike">
              <a:solidFill>
                <a:srgbClr val="000000"/>
              </a:solidFill>
              <a:latin typeface="Arial"/>
            </a:endParaRPr>
          </a:p>
          <a:p>
            <a:pPr lvl="1" marL="671760" indent="-2239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te rettes opp ved at den feilende legger til et kort som kan spilles på lovlig måte.</a:t>
            </a:r>
            <a:endParaRPr b="1" lang="en-US" sz="1800" spc="-1" strike="noStrike">
              <a:solidFill>
                <a:srgbClr val="000000"/>
              </a:solidFill>
              <a:latin typeface="Arial"/>
            </a:endParaRPr>
          </a:p>
          <a:p>
            <a:pPr lvl="1" marL="671760" indent="-2239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PILLEREN HAR LAGT TIL FOR MANGE KORT</a:t>
            </a:r>
            <a:endParaRPr b="1" lang="en-US" sz="1800" spc="-1" strike="noStrike">
              <a:solidFill>
                <a:srgbClr val="000000"/>
              </a:solidFill>
              <a:latin typeface="Arial"/>
            </a:endParaRPr>
          </a:p>
          <a:p>
            <a:pPr lvl="1" marL="671760" indent="-2239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For å korrigere at det er spilt for mange kort til et stikk, kommer §45E (fem kort i et stikk) eller §58B (samtidig spill av kort fra samme hånd) til anvendelse.</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3. BLINDEMANNS BEGRENSNINGER</a:t>
            </a:r>
            <a:endParaRPr b="1" i="1" lang="en-US" sz="2800" spc="-1" strike="noStrike">
              <a:solidFill>
                <a:srgbClr val="000000"/>
              </a:solidFill>
              <a:latin typeface="Arial"/>
            </a:endParaRPr>
          </a:p>
        </p:txBody>
      </p:sp>
      <p:sp>
        <p:nvSpPr>
          <p:cNvPr id="5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BEGRENSNINGER SOM ER BELAGT MED SÆRSKILT STRAFF</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UTVEKSLING AV HENGER</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utveksle hender med spilleføreren.</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FORLATE SIN PLASS FOR Å SE PÅ SPILLEFØREREN</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forlate sin plass for å se på hvordan spilleføreren spiller hånden.</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SE EN MOTSPILLERS HÅND</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på eget initiativ se på fremsiden av et kort på noen av motspillernes hender.</a:t>
            </a:r>
            <a:endParaRPr b="1"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7. IRREGULÆRE STIKK</a:t>
            </a:r>
            <a:endParaRPr b="1" i="1" lang="en-US" sz="2800" spc="-1" strike="noStrike">
              <a:solidFill>
                <a:srgbClr val="000000"/>
              </a:solidFill>
              <a:latin typeface="Arial"/>
            </a:endParaRPr>
          </a:p>
        </p:txBody>
      </p:sp>
      <p:sp>
        <p:nvSpPr>
          <p:cNvPr id="18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6000"/>
          </a:bodyPr>
          <a:p>
            <a:pPr marL="27432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TTER AT BEGGE SIDER HAR SPILT TIL NESTE STIKK</a:t>
            </a:r>
            <a:endParaRPr b="1" lang="en-US" sz="2400" spc="-1" strike="noStrike">
              <a:solidFill>
                <a:srgbClr val="000000"/>
              </a:solidFill>
              <a:latin typeface="Arial"/>
            </a:endParaRPr>
          </a:p>
          <a:p>
            <a:pPr lvl="1" marL="658080" indent="-21924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begge sider har spilt til det påfølgende stikk, og det irregulære stikk enten blir påtalt eller TL finner ut at det må ha forekommet et irregulært stikk (fordi en av spillerne har for få eller for mange kort på hånden, og et tilsvarende ukorrekt antall av spilte kort), bringer TL på det rene hvilket stikk som har vært irregulært. For å korrigere antallet kort bør TL gå frem som følger:</a:t>
            </a:r>
            <a:endParaRPr b="1" lang="en-US" sz="1800" spc="-1" strike="noStrike">
              <a:solidFill>
                <a:srgbClr val="000000"/>
              </a:solidFill>
              <a:latin typeface="Arial"/>
            </a:endParaRPr>
          </a:p>
          <a:p>
            <a:pPr lvl="1" marL="658080" indent="-21924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N FEILENDE HAR FOR MANGE KORT</a:t>
            </a:r>
            <a:endParaRPr b="1" lang="en-US" sz="1800" spc="-1" strike="noStrike">
              <a:solidFill>
                <a:srgbClr val="000000"/>
              </a:solidFill>
              <a:latin typeface="Arial"/>
            </a:endParaRPr>
          </a:p>
          <a:p>
            <a:pPr lvl="1" marL="658080" indent="-21924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n feilende har unnlatt å spille et kort til det irregulære stikket, skal TL forlange at den feilende med en gang spiller et kort med fremsiden opp, snur og plasserer det på riktig plass blant sine spilte kort (dette kortet påvirker ikke utfallet av stikk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7. IRREGULÆRE STIKK</a:t>
            </a:r>
            <a:endParaRPr b="1" i="1" lang="en-US" sz="2800" spc="-1" strike="noStrike">
              <a:solidFill>
                <a:srgbClr val="000000"/>
              </a:solidFill>
              <a:latin typeface="Arial"/>
            </a:endParaRPr>
          </a:p>
        </p:txBody>
      </p:sp>
      <p:sp>
        <p:nvSpPr>
          <p:cNvPr id="18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DEN FEILENDE HAR ET KORT I DEN UTSPILTE FARGE</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har et kort i den fargen som ble spilt ut til det irregulære stikket, må spilleren velge et slikt kort og plassere det blant sine spilte kort, og det blir ingen straff.</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DEN FEILENDE HAR IKKE NOE KORT I DEN UTSPILTE FARGE</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ikke har noe kort i den fargen som ble spilt ut til det irregulære stikket, velger han et hvilket som helst kort og plasserer det blant sine spilte kort. Som straff betraktes det som om spilleren har begått revoke i det irregulære stikket slik at spilleren kan bli ilagt ett-stikks straff ifølge §64.</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7. IRREGULÆRE STIKK</a:t>
            </a:r>
            <a:endParaRPr b="1" i="1" lang="en-US" sz="2800" spc="-1" strike="noStrike">
              <a:solidFill>
                <a:srgbClr val="000000"/>
              </a:solidFill>
              <a:latin typeface="Arial"/>
            </a:endParaRPr>
          </a:p>
        </p:txBody>
      </p:sp>
      <p:sp>
        <p:nvSpPr>
          <p:cNvPr id="18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6000"/>
          </a:bodyPr>
          <a:p>
            <a:pPr lvl="1" marL="658080" indent="-21924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FEILENDE HAR FOR FÅ KORT</a:t>
            </a:r>
            <a:br>
              <a:rPr sz="1800"/>
            </a:br>
            <a:r>
              <a:rPr b="0" lang="nb-NO" sz="1800" spc="-1" strike="noStrike">
                <a:solidFill>
                  <a:srgbClr val="000000"/>
                </a:solidFill>
                <a:latin typeface="Arial"/>
              </a:rPr>
              <a:t>Når den feilende har spilt mer enn ett kort til det irregulære stikket, gransker TL de spilte kortene og forlanger at den feilende skal sette tilbake på hånden alle overflødige kort* - idet spilleren samtidig lar det kortet som ble lagt med fremsiden opp til det irregulære stikket bli liggende blant de spilte kortene. </a:t>
            </a:r>
            <a:r>
              <a:rPr b="0" i="1" lang="nb-NO" sz="1800" spc="-1" strike="noStrike">
                <a:solidFill>
                  <a:srgbClr val="000000"/>
                </a:solidFill>
                <a:latin typeface="Arial"/>
              </a:rPr>
              <a:t>(Hvis TL er ute av stand til å avgjøre hvilket kort som ble spilt på korrekt måte, lar den feilende det høyeste av de kortene som kunne ha vært spilt på lovlig måte til det irregulære stikket, bli liggende blant de spilte kortene.)</a:t>
            </a:r>
            <a:r>
              <a:rPr b="0" lang="nb-NO" sz="1800" spc="-1" strike="noStrike">
                <a:solidFill>
                  <a:srgbClr val="000000"/>
                </a:solidFill>
                <a:latin typeface="Arial"/>
              </a:rPr>
              <a:t> Et kort som på denne måten gjenopptas på spillerens hånd, betraktes som å ha tilhørt hånden hele tiden, og dersom spilleren har unnlatt å spille det til et tidligere stikk, etter at feilen ble gjort, men før det ble satt tilbake på hånden, kan det medføre revoke.</a:t>
            </a:r>
            <a:endParaRPr b="1" lang="en-US" sz="1800" spc="-1" strike="noStrike">
              <a:solidFill>
                <a:srgbClr val="000000"/>
              </a:solidFill>
              <a:latin typeface="Arial"/>
            </a:endParaRPr>
          </a:p>
          <a:p>
            <a:pPr lvl="1" marL="658080" indent="-21924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Turneringslederen bør så lang mulig unngå å vise frem en motspillers spilte kort, men hvis et overflødig kort som skal settes tilbake på en motspillers hånd er blitt fremvist, blir det straffekort (se §50).</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8. KRAV PÅ ELLER AVSTÅELSE </a:t>
            </a:r>
            <a:br>
              <a:rPr sz="2800"/>
            </a:br>
            <a:r>
              <a:rPr b="1" i="1" lang="nb-NO" sz="2800" spc="-1" strike="noStrike">
                <a:solidFill>
                  <a:srgbClr val="000000"/>
                </a:solidFill>
                <a:latin typeface="Arial"/>
              </a:rPr>
              <a:t>AV STIKK</a:t>
            </a:r>
            <a:endParaRPr b="1" i="1" lang="en-US" sz="2800" spc="-1" strike="noStrike">
              <a:solidFill>
                <a:srgbClr val="000000"/>
              </a:solidFill>
              <a:latin typeface="Arial"/>
            </a:endParaRPr>
          </a:p>
        </p:txBody>
      </p:sp>
      <p:sp>
        <p:nvSpPr>
          <p:cNvPr id="19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7000"/>
          </a:bodyPr>
          <a:p>
            <a:pPr marL="277200" indent="0">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For at et utsagn eller en handling skal innebære et krav på eller en avståelse av stikk ifølge lovene, må det referere til andre stikk enn det som på det aktuelle tidspunkt er i spill*. Hvis det refererer til påfølgende stikk, gjelder følgende:</a:t>
            </a:r>
            <a:endParaRPr b="1" lang="en-US" sz="1800" spc="-1" strike="noStrike">
              <a:solidFill>
                <a:srgbClr val="000000"/>
              </a:solidFill>
              <a:latin typeface="Arial"/>
            </a:endParaRPr>
          </a:p>
          <a:p>
            <a:pPr marL="277200" indent="0">
              <a:lnSpc>
                <a:spcPct val="90000"/>
              </a:lnSpc>
              <a:spcBef>
                <a:spcPts val="524"/>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0" lang="nb-NO" sz="1400" spc="-1" strike="noStrike">
                <a:solidFill>
                  <a:srgbClr val="000000"/>
                </a:solidFill>
                <a:latin typeface="Arial"/>
              </a:rPr>
              <a:t>*Hvis utsagnet eller handlingen bare gjelder hvordan et ufullført pågående stikk kan vinnes eller tapes, fortsetter spillet som normalt. Kort som er fremvist eller avslørt av en motspiller, blir ikke straffekort, men §16 (urettmessig informasjon) kan komme til anvendelse. Se også 57A (spill i utide).</a:t>
            </a:r>
            <a:endParaRPr b="1" lang="en-US" sz="1400" spc="-1" strike="noStrike">
              <a:solidFill>
                <a:srgbClr val="000000"/>
              </a:solidFill>
              <a:latin typeface="Arial"/>
            </a:endParaRPr>
          </a:p>
          <a:p>
            <a:pPr marL="27720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FINISJON AV KRAV</a:t>
            </a:r>
            <a:endParaRPr b="1" lang="en-US" sz="2400" spc="-1" strike="noStrike">
              <a:solidFill>
                <a:srgbClr val="000000"/>
              </a:solidFill>
              <a:latin typeface="Arial"/>
            </a:endParaRPr>
          </a:p>
          <a:p>
            <a:pPr lvl="1" marL="664920" indent="-221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sagn som går ut på at en deltager vil vinne et nærmere angitt antall stikk, er et krav på disse stikkene. En deltager fremsetter også et krav når han foreslår at spillet skal avbrytes, eller viser frem kortene sine (med mindre det er åpenbart at spilleren ikke hadde til hensikt å fremsette et krav).</a:t>
            </a:r>
            <a:endParaRPr b="1"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8. KRAV PÅ ELLER AVSTÅELSE</a:t>
            </a:r>
            <a:endParaRPr b="1" i="1" lang="en-US" sz="2800" spc="-1" strike="noStrike">
              <a:solidFill>
                <a:srgbClr val="000000"/>
              </a:solidFill>
              <a:latin typeface="Arial"/>
            </a:endParaRPr>
          </a:p>
        </p:txBody>
      </p:sp>
      <p:sp>
        <p:nvSpPr>
          <p:cNvPr id="19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7000"/>
          </a:bodyPr>
          <a:p>
            <a:pPr marL="27720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DEFINISJON AV AVSTÅELSE</a:t>
            </a:r>
            <a:endParaRPr b="1" lang="en-US" sz="2400" spc="-1" strike="noStrike">
              <a:solidFill>
                <a:srgbClr val="000000"/>
              </a:solidFill>
              <a:latin typeface="Arial"/>
            </a:endParaRPr>
          </a:p>
          <a:p>
            <a:pPr lvl="1" marL="664920" indent="-221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sagn som går ut på at en deltager vil tape et nærmere angitt antall stikk, er en avståelse av disse stikkene. Et krav på et visst antall stikk er samtidig en avståelse av eventuelle resterende stikk. Når en spiller oppgir å spille videre avstår han alle resterende stikk. Hvis en motspiller forsøker å avstå ett eller flere stikk, men spillerens makker omgående protesterer, har det ikke skjedd noen avståelse, uten hensyn til det som er fastsatt i det foregående. §16 (urettmessig informasjon) kan komme til anvendelse, og turneringslederen bør derfor tilkalles med en gang.</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64920" indent="-22140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7 omhandler hva som skjer når en motspiller spiller ut til neste stikk før hans makker har spilt til det foreliggende stikk, eller spiller utenfor tur før makker har spil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8. KRAV PÅ ELLER AVSTÅELSE</a:t>
            </a:r>
            <a:endParaRPr b="1" i="1" lang="en-US" sz="2800" spc="-1" strike="noStrike">
              <a:solidFill>
                <a:srgbClr val="000000"/>
              </a:solidFill>
              <a:latin typeface="Arial"/>
            </a:endParaRPr>
          </a:p>
        </p:txBody>
      </p:sp>
      <p:sp>
        <p:nvSpPr>
          <p:cNvPr id="194" name="PlaceHolder 2"/>
          <p:cNvSpPr>
            <a:spLocks noGrp="1"/>
          </p:cNvSpPr>
          <p:nvPr>
            <p:ph/>
          </p:nvPr>
        </p:nvSpPr>
        <p:spPr>
          <a:xfrm>
            <a:off x="990360" y="1828800"/>
            <a:ext cx="7467480" cy="4114800"/>
          </a:xfrm>
          <a:prstGeom prst="rect">
            <a:avLst/>
          </a:prstGeom>
          <a:noFill/>
          <a:ln w="0">
            <a:noFill/>
          </a:ln>
        </p:spPr>
        <p:txBody>
          <a:bodyPr lIns="90360" rIns="90360" tIns="44280" bIns="44280" anchor="t">
            <a:normAutofit fontScale="91000"/>
          </a:bodyPr>
          <a:p>
            <a:pPr marL="25992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DET FORLANGES REDEGJØRELSE FOR KRAV</a:t>
            </a:r>
            <a:endParaRPr b="1" lang="en-US" sz="2400" spc="-1" strike="noStrike">
              <a:solidFill>
                <a:srgbClr val="000000"/>
              </a:solidFill>
              <a:latin typeface="Arial"/>
            </a:endParaRPr>
          </a:p>
          <a:p>
            <a:pPr lvl="1" marL="623880" indent="-2077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rav bør omgående ledsages av en redegjørelse om hvilken rekkefølge kortene vil bli spilt i, samt hvilken spilleførings- eller motspillsplan en som fremsetter kravet har tenkt å gjennomføre for å vinne de stikkene det gjøres krav på.</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5992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PILLET OPPHØRER</a:t>
            </a:r>
            <a:endParaRPr b="1" lang="en-US" sz="2400" spc="-1" strike="noStrike">
              <a:solidFill>
                <a:srgbClr val="000000"/>
              </a:solidFill>
              <a:latin typeface="Arial"/>
            </a:endParaRPr>
          </a:p>
          <a:p>
            <a:pPr lvl="1" marL="623880" indent="-20772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er gjort et krav eller en avståelse, opphører spillet. Ethvert spill etter et krav eller en avståelse skal dømmes ugyldig av TL. hvis kravet eller avståelsen blir godtatt, kommer §69 til anvendelse. hvis det kommer protest fra noen av spillerne (blindemann ikke unntatt), må TL tilkalles med en gang for å ta §70** eller §71** i anvendelse. Ingen av spillerne kan foreta seg noe før TL kommer.</a:t>
            </a:r>
            <a:endParaRPr b="1" lang="en-US" sz="1800" spc="-1" strike="noStrike">
              <a:solidFill>
                <a:srgbClr val="000000"/>
              </a:solidFill>
              <a:latin typeface="Arial"/>
            </a:endParaRPr>
          </a:p>
          <a:p>
            <a:pPr lvl="1" marL="623880" indent="-207720">
              <a:lnSpc>
                <a:spcPct val="90000"/>
              </a:lnSpc>
              <a:spcBef>
                <a:spcPts val="451"/>
              </a:spcBef>
              <a:spcAft>
                <a:spcPts val="300"/>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70 omhandler krav som ikke blir godtatt., **§71 omhandler annullering av avståel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9. GODTAGELSE AV KRAV ELLER AVSTÅELSE</a:t>
            </a:r>
            <a:endParaRPr b="1" i="1" lang="en-US" sz="2800" spc="-1" strike="noStrike">
              <a:solidFill>
                <a:srgbClr val="000000"/>
              </a:solidFill>
              <a:latin typeface="Arial"/>
            </a:endParaRPr>
          </a:p>
        </p:txBody>
      </p:sp>
      <p:sp>
        <p:nvSpPr>
          <p:cNvPr id="19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ORUTSETNINGER FOR GODTAGELSE</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rav eller en avståelse er godtatt når en deltager går med på en motstanders krav eller avståelse, og ikke gjør noen innvendinger mot kravet eller avståelsen før spillerens side avgir en melding på en påfølgende mappe, eller før runden er avsluttet. Mappen blir scoret som om de krevede eller avståtte stikk var blitt vunnet eller tapt gjennom spill.</a:t>
            </a:r>
            <a:endParaRPr b="1"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69. GODTAGELSE AV KRAV ELLER AVSTÅELSE</a:t>
            </a:r>
            <a:endParaRPr b="1" i="1" lang="en-US" sz="2800" spc="-1" strike="noStrike">
              <a:solidFill>
                <a:srgbClr val="000000"/>
              </a:solidFill>
              <a:latin typeface="Arial"/>
            </a:endParaRPr>
          </a:p>
        </p:txBody>
      </p:sp>
      <p:sp>
        <p:nvSpPr>
          <p:cNvPr id="19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TILBAKETREKNING AV GODTAGELSE</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nnenfor den korrigeringsfrist** som er fastsatt i §79, kan en deltager trekke tilbake sin godtagelse av en motstanders krav, men bare hvis han har godtatt tapet av et stikk som hans egen side faktisk har vunnet, eller tapet av et stikk som etter turneringslederens vurdering ikke kunne tapes ved noen normal* spillemåte for de resterende kortene. Mappen blir i så fall scoret på ny og eventuelle slike stikk tildeles den siden som hadde godtatt kravet.</a:t>
            </a:r>
            <a:endParaRPr b="1" lang="en-US" sz="1800" spc="-1" strike="noStrike">
              <a:solidFill>
                <a:srgbClr val="000000"/>
              </a:solidFill>
              <a:latin typeface="Arial"/>
            </a:endParaRPr>
          </a:p>
          <a:p>
            <a:pPr lvl="1" marL="685800" indent="-22860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Korrigeringsfristen er normalt 30 minutter dersom arrangøren ikke har bestemt noe annet.</a:t>
            </a:r>
            <a:endParaRPr b="1" lang="en-US" sz="1400" spc="-1" strike="noStrike">
              <a:solidFill>
                <a:srgbClr val="000000"/>
              </a:solidFill>
              <a:latin typeface="Arial"/>
            </a:endParaRPr>
          </a:p>
          <a:p>
            <a:pPr lvl="1" marL="685800" indent="-22860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bestemmelsene i §69, §70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0. KRAV SOM IKKE BLIR GODTATT</a:t>
            </a:r>
            <a:endParaRPr b="1" i="1" lang="en-US" sz="2800" spc="-1" strike="noStrike">
              <a:solidFill>
                <a:srgbClr val="000000"/>
              </a:solidFill>
              <a:latin typeface="Arial"/>
            </a:endParaRPr>
          </a:p>
        </p:txBody>
      </p:sp>
      <p:sp>
        <p:nvSpPr>
          <p:cNvPr id="20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TANDARD FRAMGANGSMÅTE</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L dømmer at et krav ikke er godtatt, tilpasser TL resultatet av mappen så rettferdig som mulig for begge sider, men i ethvert tvilsomt punkt skal det dømmes mot den som har fremsatt kravet. TL går frem på følgende måte:</a:t>
            </a:r>
            <a:endParaRPr b="1" lang="en-US" sz="1800" spc="-1" strike="noStrike">
              <a:solidFill>
                <a:srgbClr val="000000"/>
              </a:solidFill>
              <a:latin typeface="Arial"/>
            </a:endParaRPr>
          </a:p>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DEGJØRELSEN GJENTAS</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FORLANGES AT DEN SOM FREMSATTE KRAVET, GJENTAR SIN REDEGJØRELSE</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forlanger at den spiller som fremsatte kravet, skal gjenta den redegjørelsen vedkommende ga på det tidspunkt da kravet ble fremsatt.</a:t>
            </a:r>
            <a:endParaRPr b="1" lang="en-US" sz="1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0. KRAV SOM IKKE BLIR GODTATT</a:t>
            </a:r>
            <a:endParaRPr b="1" i="1" lang="en-US" sz="2800" spc="-1" strike="noStrike">
              <a:solidFill>
                <a:srgbClr val="000000"/>
              </a:solidFill>
              <a:latin typeface="Arial"/>
            </a:endParaRPr>
          </a:p>
        </p:txBody>
      </p:sp>
      <p:sp>
        <p:nvSpPr>
          <p:cNvPr id="20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FORLANGES AT ALLE HENDENE BLIR LAGT MED FREMSIDEN OPP</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etter forlanger TL at alle spillerne skal legge sine resterende kort på bordet med fremsiden opp.</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MOTSTANDERNES INNVENDINGER BLIR HØR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å hører TL på motstandernes innvendinger mot krav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3. BLINDEMANNS BEGRENSNINGER</a:t>
            </a:r>
            <a:endParaRPr b="1" i="1" lang="en-US" sz="2800" spc="-1" strike="noStrike">
              <a:solidFill>
                <a:srgbClr val="000000"/>
              </a:solidFill>
              <a:latin typeface="Arial"/>
            </a:endParaRPr>
          </a:p>
        </p:txBody>
      </p:sp>
      <p:sp>
        <p:nvSpPr>
          <p:cNvPr id="6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TRAFFEBESTEMMELSER</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GENERELLE STRAFFEBESTEMMELSER</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pådrar seg straff ifølge §90 for alle lovbrudd som er nevnt i pkt. A1 eller A2 ovenfor**.</a:t>
            </a:r>
            <a:endParaRPr b="1" lang="en-US" sz="1800" spc="-1" strike="noStrike">
              <a:solidFill>
                <a:srgbClr val="000000"/>
              </a:solidFill>
              <a:latin typeface="Arial"/>
            </a:endParaRPr>
          </a:p>
          <a:p>
            <a:pPr lvl="1" marL="685800" indent="-22860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90 omhandler disiplinærstraff.</a:t>
            </a:r>
            <a:endParaRPr b="1" lang="en-US" sz="1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ÆRSKILTE STRAFFEBESTEMMELSER</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blindemann etter å ha forbrutt seg mot begrensningene som er nevnt under pkt. A2 ovenfor:</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ADVARER SPILLEFØREREN OM UTSPILLET</a:t>
            </a:r>
            <a:endParaRPr b="1" lang="en-US" sz="18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dvarer spilleføreren mot å spille ut fra feil hånd, kan enhver av motspillerne som straff velge hvilken hånd spilleføreren skal spille ut fra.</a:t>
            </a:r>
            <a:endParaRPr b="1" lang="en-US" sz="1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0. KRAV SOM IKKE BLIR GODTATT</a:t>
            </a:r>
            <a:endParaRPr b="1" i="1" lang="en-US" sz="2800" spc="-1" strike="noStrike">
              <a:solidFill>
                <a:srgbClr val="000000"/>
              </a:solidFill>
              <a:latin typeface="Arial"/>
            </a:endParaRPr>
          </a:p>
        </p:txBody>
      </p:sp>
      <p:sp>
        <p:nvSpPr>
          <p:cNvPr id="20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6000"/>
          </a:bodyPr>
          <a:p>
            <a:pPr marL="27432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DET FINNES TRUMF IGJEN</a:t>
            </a:r>
            <a:endParaRPr b="1" lang="en-US" sz="2400" spc="-1" strike="noStrike">
              <a:solidFill>
                <a:srgbClr val="000000"/>
              </a:solidFill>
              <a:latin typeface="Arial"/>
            </a:endParaRPr>
          </a:p>
          <a:p>
            <a:pPr lvl="1" marL="658080" indent="-21924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fortsatt er igjen trumf på en av motstandernes hender, skal turneringslederen tildele ett eller flere stikk til motstanderne der som følgende 3 betingelser alle er oppfylt:</a:t>
            </a:r>
            <a:endParaRPr b="1" lang="en-US" sz="1800" spc="-1" strike="noStrike">
              <a:solidFill>
                <a:srgbClr val="000000"/>
              </a:solidFill>
              <a:latin typeface="Arial"/>
            </a:endParaRPr>
          </a:p>
          <a:p>
            <a:pPr lvl="1" marL="658080" indent="-21924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RUMFKORTET BLE IKKE NEVNT</a:t>
            </a:r>
            <a:br>
              <a:rPr sz="1800"/>
            </a:br>
            <a:r>
              <a:rPr b="0" lang="nb-NO" sz="1800" spc="-1" strike="noStrike">
                <a:solidFill>
                  <a:srgbClr val="000000"/>
                </a:solidFill>
                <a:latin typeface="Arial"/>
              </a:rPr>
              <a:t>Den som fremsatte kravet, ikke nevnte noe om dette trumfkortet, og:</a:t>
            </a:r>
            <a:endParaRPr b="1" lang="en-US" sz="1800" spc="-1" strike="noStrike">
              <a:solidFill>
                <a:srgbClr val="000000"/>
              </a:solidFill>
              <a:latin typeface="Arial"/>
            </a:endParaRPr>
          </a:p>
          <a:p>
            <a:pPr lvl="1" marL="658080" indent="-21924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IKKE OPPMERKSOM PÅ TRUMFKORTET</a:t>
            </a:r>
            <a:br>
              <a:rPr sz="1800"/>
            </a:br>
            <a:r>
              <a:rPr b="0" lang="nb-NO" sz="1800" spc="-1" strike="noStrike">
                <a:solidFill>
                  <a:srgbClr val="000000"/>
                </a:solidFill>
                <a:latin typeface="Arial"/>
              </a:rPr>
              <a:t>Det er mulighet for at den som fremsatte kravet ikke var oppmerksom på at det fortsatt fantes trumf på en motstanders hånd da kravet ble fremsatt, og:</a:t>
            </a:r>
            <a:endParaRPr b="1" lang="en-US" sz="1800" spc="-1" strike="noStrike">
              <a:solidFill>
                <a:srgbClr val="000000"/>
              </a:solidFill>
              <a:latin typeface="Arial"/>
            </a:endParaRPr>
          </a:p>
          <a:p>
            <a:pPr lvl="1" marL="658080" indent="-21924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TRUMFKORTET KUNNE VINNE ET STIKK</a:t>
            </a:r>
            <a:br>
              <a:rPr sz="1800"/>
            </a:br>
            <a:r>
              <a:rPr b="0" lang="nb-NO" sz="1800" spc="-1" strike="noStrike">
                <a:solidFill>
                  <a:srgbClr val="000000"/>
                </a:solidFill>
                <a:latin typeface="Arial"/>
              </a:rPr>
              <a:t>Den som fremsatte kravet, kunne tape et stikk til dette trumfkortet ved noen som helst normal spillemåt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0. KRAV SOM IKKE BLIR GODTATT</a:t>
            </a:r>
            <a:endParaRPr b="1" i="1" lang="en-US" sz="2800" spc="-1" strike="noStrike">
              <a:solidFill>
                <a:srgbClr val="000000"/>
              </a:solidFill>
              <a:latin typeface="Arial"/>
            </a:endParaRPr>
          </a:p>
        </p:txBody>
      </p:sp>
      <p:sp>
        <p:nvSpPr>
          <p:cNvPr id="20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NY SPILLEPLAN BLIR FORESLÅTT</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L skal ikke godkjenne at den som fremsatte kravet, foreslår en hvilken som helst fremgangsrik spilleplan som ikke inngitt i den opprinnelige redegjørelse, såfremt det finnes noen alternativ normal* spilleplan som ville være mindre fremgangsrik.</a:t>
            </a:r>
            <a:endParaRPr b="1" lang="en-US" sz="1800" spc="-1" strike="noStrike">
              <a:solidFill>
                <a:srgbClr val="000000"/>
              </a:solidFill>
              <a:latin typeface="Arial"/>
            </a:endParaRPr>
          </a:p>
          <a:p>
            <a:pPr lvl="1" marL="685800" indent="0">
              <a:lnSpc>
                <a:spcPct val="90000"/>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bestemmelsene i §69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0. KRAV SOM IKKE BLIR GODTATT</a:t>
            </a:r>
            <a:endParaRPr b="1" i="1" lang="en-US" sz="2800" spc="-1" strike="noStrike">
              <a:solidFill>
                <a:srgbClr val="000000"/>
              </a:solidFill>
              <a:latin typeface="Arial"/>
            </a:endParaRPr>
          </a:p>
        </p:txBody>
      </p:sp>
      <p:sp>
        <p:nvSpPr>
          <p:cNvPr id="20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PILLEPLAN SOM IKKE ER NEVNT (FINESSE ELLER TOPPING)</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L skal ikke godkjenne at den som fremsatte kravet, gjør bruk av en spilleplan som ikke er nevnt, og hvis suksess er avhengig av at et bestemt kort finnes hos en av motstanderne og ikke hos den andre - med mindre en motstander har unnlatt å følge dette kortets farge før kravet ble fremsatt, eller senere ville unnlate å følge fargen ved en normal* spilleplan; eller hvis en slik spillemåte ville være irrasjonell.</a:t>
            </a:r>
            <a:endParaRPr b="1" lang="en-US" sz="1800" spc="-1" strike="noStrike">
              <a:solidFill>
                <a:srgbClr val="000000"/>
              </a:solidFill>
              <a:latin typeface="Arial"/>
            </a:endParaRPr>
          </a:p>
          <a:p>
            <a:pPr lvl="1" marL="685800"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22860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bestemmelsene i §69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1. ANNULLERING AV AVSTÅELSE</a:t>
            </a:r>
            <a:endParaRPr b="1" i="1" lang="en-US" sz="2800" spc="-1" strike="noStrike">
              <a:solidFill>
                <a:srgbClr val="000000"/>
              </a:solidFill>
              <a:latin typeface="Arial"/>
            </a:endParaRPr>
          </a:p>
        </p:txBody>
      </p:sp>
      <p:sp>
        <p:nvSpPr>
          <p:cNvPr id="21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1800" spc="-1" strike="noStrike">
                <a:solidFill>
                  <a:srgbClr val="000000"/>
                </a:solidFill>
                <a:latin typeface="Arial"/>
              </a:rPr>
              <a:t>En avståelse må bli stående når den først er gjort, men innenfor den korrigeringsfrist** som er fastsatt i §79C, skal TL annullere en avståelse i følgende tilfeller:</a:t>
            </a:r>
            <a:endParaRPr b="1" lang="en-US" sz="1800" spc="-1" strike="noStrike">
              <a:solidFill>
                <a:srgbClr val="000000"/>
              </a:solidFill>
              <a:latin typeface="Arial"/>
            </a:endParaRPr>
          </a:p>
          <a:p>
            <a:pPr marL="285840" indent="0">
              <a:lnSpc>
                <a:spcPct val="90000"/>
              </a:lnSpc>
              <a:spcBef>
                <a:spcPts val="524"/>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a:t>
            </a:r>
            <a:r>
              <a:rPr b="0" lang="nb-NO" sz="1400" spc="-1" strike="noStrike">
                <a:solidFill>
                  <a:srgbClr val="000000"/>
                </a:solidFill>
                <a:latin typeface="Arial"/>
              </a:rPr>
              <a:t>**Korrigeringsfristen er normalt 30 minutter dersom arrangøren ikke har bestemt noe annet.</a:t>
            </a:r>
            <a:br>
              <a:rPr sz="1400"/>
            </a:br>
            <a:endParaRPr b="1" lang="en-US" sz="1400" spc="-1" strike="noStrike">
              <a:solidFill>
                <a:srgbClr val="000000"/>
              </a:solidFill>
              <a:latin typeface="Arial"/>
            </a:endParaRPr>
          </a:p>
          <a:p>
            <a:pPr marL="28584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STIKKET OVERHODET IKKE</a:t>
            </a:r>
            <a:br>
              <a:rPr sz="2400"/>
            </a:br>
            <a:r>
              <a:rPr b="1" lang="nb-NO" sz="2400" spc="-1" strike="noStrike">
                <a:solidFill>
                  <a:srgbClr val="000000"/>
                </a:solidFill>
                <a:latin typeface="Arial"/>
              </a:rPr>
              <a:t> KAN TAPES</a:t>
            </a:r>
            <a:endParaRPr b="1" lang="en-US" sz="2400" spc="-1" strike="noStrike">
              <a:solidFill>
                <a:srgbClr val="000000"/>
              </a:solidFill>
              <a:latin typeface="Arial"/>
            </a:endParaRPr>
          </a:p>
          <a:p>
            <a:pPr lvl="1" marL="685800" indent="-2286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har avstått et stikk som hans side ikke kunne ha tapt ved noe lovlig spill av resterende kort.</a:t>
            </a:r>
            <a:endParaRPr b="1" lang="en-US" sz="1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71. ANNULLERING AV AVSTÅELSE</a:t>
            </a:r>
            <a:endParaRPr b="1" i="1" lang="en-US" sz="2800" spc="-1" strike="noStrike">
              <a:solidFill>
                <a:srgbClr val="000000"/>
              </a:solidFill>
              <a:latin typeface="Arial"/>
            </a:endParaRPr>
          </a:p>
        </p:txBody>
      </p:sp>
      <p:sp>
        <p:nvSpPr>
          <p:cNvPr id="21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89000"/>
          </a:bodyPr>
          <a:p>
            <a:pPr marL="25416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a:t>
            </a:r>
            <a:r>
              <a:rPr b="1" lang="nb-NO" sz="2400" spc="-1" strike="noStrike">
                <a:solidFill>
                  <a:srgbClr val="000000"/>
                </a:solidFill>
                <a:latin typeface="Arial"/>
              </a:rPr>
              <a:t>	</a:t>
            </a:r>
            <a:r>
              <a:rPr b="1" lang="nb-NO" sz="2400" spc="-1" strike="noStrike">
                <a:solidFill>
                  <a:srgbClr val="000000"/>
                </a:solidFill>
                <a:latin typeface="Arial"/>
              </a:rPr>
              <a:t> NÅR KONTRAKTEN ALLEREDE ER VUNNET</a:t>
            </a:r>
            <a:br>
              <a:rPr sz="2400"/>
            </a:br>
            <a:r>
              <a:rPr b="1" lang="nb-NO" sz="2400" spc="-1" strike="noStrike">
                <a:solidFill>
                  <a:srgbClr val="000000"/>
                </a:solidFill>
                <a:latin typeface="Arial"/>
              </a:rPr>
              <a:t> ELLER BETET</a:t>
            </a:r>
            <a:endParaRPr b="1" lang="en-US" sz="2400" spc="-1" strike="noStrike">
              <a:solidFill>
                <a:srgbClr val="000000"/>
              </a:solidFill>
              <a:latin typeface="Arial"/>
            </a:endParaRPr>
          </a:p>
          <a:p>
            <a:pPr lvl="1" marL="610200" indent="-203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føreren har gjort en avståelse som medfører bet i en kontrakt som allerede er vunnet, eller en motspiller har gjort en avståelse som medfører at en kontrakt som hans side allerede hadde betet, ble vunnet.</a:t>
            </a:r>
            <a:endParaRPr b="1" lang="en-US" sz="1800" spc="-1" strike="noStrike">
              <a:solidFill>
                <a:srgbClr val="000000"/>
              </a:solidFill>
              <a:latin typeface="Arial"/>
            </a:endParaRPr>
          </a:p>
          <a:p>
            <a:pPr marL="25416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RIMELIG AVSTÅELSE</a:t>
            </a:r>
            <a:endParaRPr b="1" lang="en-US" sz="2400" spc="-1" strike="noStrike">
              <a:solidFill>
                <a:srgbClr val="000000"/>
              </a:solidFill>
              <a:latin typeface="Arial"/>
            </a:endParaRPr>
          </a:p>
          <a:p>
            <a:pPr lvl="1" marL="610200" indent="-20340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rsom en spiller har avstått et stikk som ikke kunne tapes ved normalt* spill av de resterende kort. Før den avstående side avgir en melding på en påfølgende mappe, eller før runden er avsluttet, skal TL annullere avståelsen av et stikk som ikke kunne bli tapt ved noen form for normalt* spill av de resterende kort</a:t>
            </a:r>
            <a:endParaRPr b="1" lang="en-US" sz="1800" spc="-1" strike="noStrike">
              <a:solidFill>
                <a:srgbClr val="000000"/>
              </a:solidFill>
              <a:latin typeface="Arial"/>
            </a:endParaRPr>
          </a:p>
          <a:p>
            <a:pPr lvl="1" marL="610200" indent="-203400">
              <a:lnSpc>
                <a:spcPct val="90000"/>
              </a:lnSpc>
              <a:spcBef>
                <a:spcPts val="524"/>
              </a:spcBef>
              <a:spcAft>
                <a:spcPts val="349"/>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Når det gjelder bestemmelsene i §69, §70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3. BLINDEMANNS BEGRENSNINGER</a:t>
            </a:r>
            <a:endParaRPr b="1" i="1" lang="en-US" sz="2800" spc="-1" strike="noStrike">
              <a:solidFill>
                <a:srgbClr val="000000"/>
              </a:solidFill>
              <a:latin typeface="Arial"/>
            </a:endParaRPr>
          </a:p>
        </p:txBody>
      </p:sp>
      <p:sp>
        <p:nvSpPr>
          <p:cNvPr id="6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5000"/>
          </a:bodyPr>
          <a:p>
            <a:pPr lvl="1" marL="651240" indent="-21708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SPØR SPILLEFØREREN OM HAN KAN HA BEGÅTT EN UREGELMESSIGHET</a:t>
            </a:r>
            <a:endParaRPr b="1" lang="en-US" sz="1800" spc="-1" strike="noStrike">
              <a:solidFill>
                <a:srgbClr val="000000"/>
              </a:solidFill>
              <a:latin typeface="Arial"/>
            </a:endParaRPr>
          </a:p>
          <a:p>
            <a:pPr lvl="1" marL="651240" indent="-21708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r den første som spør spilleføreren om et spill fra dennes hånd medfører revoke eller unnlatelse av å oppfylle en pålagt straff, så må spilleføreren erstatte sitt spill med et korrekt kort dersom det første var ulovlig, og straffebestemmelsene ifølge §64 kommer til anvendelse.</a:t>
            </a:r>
            <a:endParaRPr b="1" lang="en-US" sz="1800" spc="-1" strike="noStrike">
              <a:solidFill>
                <a:srgbClr val="000000"/>
              </a:solidFill>
              <a:latin typeface="Arial"/>
            </a:endParaRPr>
          </a:p>
          <a:p>
            <a:pPr lvl="1" marL="651240" indent="-217080">
              <a:lnSpc>
                <a:spcPct val="90000"/>
              </a:lnSpc>
              <a:spcBef>
                <a:spcPts val="675"/>
              </a:spcBef>
              <a:spcAft>
                <a:spcPts val="45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ÅPEKER EN UREGELMESSIGHET HOS EN MOTSPILLER</a:t>
            </a:r>
            <a:br>
              <a:rPr sz="1800"/>
            </a:br>
            <a:br>
              <a:rPr sz="1800"/>
            </a:br>
            <a:r>
              <a:rPr b="0" lang="nb-NO" sz="1800" spc="-1" strike="noStrike">
                <a:solidFill>
                  <a:srgbClr val="000000"/>
                </a:solidFill>
                <a:latin typeface="Arial"/>
              </a:rPr>
              <a:t>Hvis blindemann, etter å ha forbrutt seg mot begrensningene som er gitt under pkt. A2 ovenfor, er den første til å påpeke en uregelmessighet begått av en motstander, så skal det ikke idømmes noen straff. Men dersom motspillerne tjener direkte på lovbruddet, skal TL tildele justert score til begge sider for å gjenopprette rettferdighet.</a:t>
            </a:r>
            <a:endParaRPr b="1" lang="en-US" sz="1800" spc="-1" strike="noStrike">
              <a:solidFill>
                <a:srgbClr val="000000"/>
              </a:solidFill>
              <a:latin typeface="Arial"/>
            </a:endParaRPr>
          </a:p>
          <a:p>
            <a:pPr lvl="1" marL="651240" indent="0">
              <a:lnSpc>
                <a:spcPct val="90000"/>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6T10:43:00Z</dcterms:created>
  <dc:creator>Kirsten Rognstad</dc:creator>
  <dc:description/>
  <dc:language>en-US</dc:language>
  <cp:lastModifiedBy>Per Nordland</cp:lastModifiedBy>
  <dcterms:modified xsi:type="dcterms:W3CDTF">2001-01-27T16:57:53Z</dcterms:modified>
  <cp:revision>16</cp:revision>
  <dc:subject/>
  <dc:title>§41. SPILLET BEGYNNER</dc:title>
</cp:coreProperties>
</file>