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1"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9"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6368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3680" y="6629400"/>
            <a:ext cx="821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6868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15976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467480" y="6553080"/>
            <a:ext cx="1446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 199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 FREMGANGSMÅTEN ETTER EN UREGELMESSIGHET</a:t>
            </a:r>
            <a:endParaRPr b="1" i="1" lang="en-US" sz="2800" spc="-1" strike="noStrike">
              <a:solidFill>
                <a:srgbClr val="000000"/>
              </a:solidFill>
              <a:latin typeface="Arial"/>
            </a:endParaRPr>
          </a:p>
        </p:txBody>
      </p:sp>
      <p:sp>
        <p:nvSpPr>
          <p:cNvPr id="46"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fontScale="90000"/>
          </a:bodyPr>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ÅTALE AV UREGELMESSIGHETER</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hver spiller kan påtale en uregelmessighet under meldingsforløpet, uansett om det er spillerens tur til å melde eller ikke, med mindre loven sier noe anne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S FORLØP</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ELLER MOTSPILLERNE</a:t>
            </a:r>
            <a:br>
              <a:rPr sz="1800"/>
            </a:br>
            <a:r>
              <a:rPr b="0" lang="nb-NO" sz="1800" spc="-1" strike="noStrike">
                <a:solidFill>
                  <a:srgbClr val="000000"/>
                </a:solidFill>
                <a:latin typeface="Arial"/>
              </a:rPr>
              <a:t>Spilleføreren og begge motspillerne kan påtale en uregel-messighet som skjer under spillets forløp, med mindre loven sier noe anne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BLINDEMANN </a:t>
            </a:r>
            <a:r>
              <a:rPr b="0" i="1" lang="nb-NO" sz="1800" spc="-1" strike="noStrike">
                <a:solidFill>
                  <a:srgbClr val="000000"/>
                </a:solidFill>
                <a:latin typeface="Arial"/>
              </a:rPr>
              <a:t>(Blindemanns rettigheter er definert i §§42 og 43)</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Blindemann kan ikke påtale en uregelmessighet som skjer under spillets forløp, men kan gjøre det etter at hånden er ferdigspil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Blindemann kan forsøke å hindre at spilleføreren begår en uregelmessighet (§41B2).</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2. TURNERINGSLEDERENS MYNDIGHET TIL Å ANVENDE SKJØNN</a:t>
            </a:r>
            <a:endParaRPr b="1" i="1" lang="en-US" sz="2800" spc="-1" strike="noStrike">
              <a:solidFill>
                <a:srgbClr val="000000"/>
              </a:solidFill>
              <a:latin typeface="Arial"/>
            </a:endParaRPr>
          </a:p>
        </p:txBody>
      </p:sp>
      <p:sp>
        <p:nvSpPr>
          <p:cNvPr id="6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ASTSETTELSE AV JUSTERT RESULT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IREKTE FASTSETTELSE AV POE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på grunn av en uregelmessighet ikke kan oppnås noen score, tildeler TL poeng i samsvar med ansvaret for uregelmessigheten: middels minus (høyst 40% av det samlede antall poeng som skal tildeles i parturnering) til en deltager som har gjort en direkte feil; middels (50% i parturnering) til en deltager som bare delvis har gjort feil; middels pluss (minst 60% i parturnering) til en deltager som overhodet ikke har gjort feil (se §86 når det gjelder lagturnering og §88 når det gjelder parturnering). Poengene som er tildelt de to sidene, behøver ikke å balansere hverandre</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2. TURNERINGSLEDERENS MYNDIGHET TIL Å ANVENDE SKJØNN</a:t>
            </a:r>
            <a:endParaRPr b="1" i="1" lang="en-US" sz="2800" spc="-1" strike="noStrike">
              <a:solidFill>
                <a:srgbClr val="000000"/>
              </a:solidFill>
              <a:latin typeface="Arial"/>
            </a:endParaRPr>
          </a:p>
        </p:txBody>
      </p:sp>
      <p:sp>
        <p:nvSpPr>
          <p:cNvPr id="6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IGERING AV SCORE</a:t>
            </a:r>
            <a:br>
              <a:rPr sz="1800"/>
            </a:br>
            <a:r>
              <a:rPr b="0" lang="nb-NO" sz="1800" spc="-1" strike="noStrike">
                <a:solidFill>
                  <a:srgbClr val="000000"/>
                </a:solidFill>
                <a:latin typeface="Arial"/>
              </a:rPr>
              <a:t>Når TL fastsetter en korrigert score i stedet for den score som faktisk er oppnådd etter en uregelmessighet, </a:t>
            </a:r>
            <a:r>
              <a:rPr b="1" i="1" lang="nb-NO" sz="1800" spc="-1" strike="noStrike">
                <a:solidFill>
                  <a:srgbClr val="000000"/>
                </a:solidFill>
                <a:latin typeface="Arial"/>
              </a:rPr>
              <a:t>er scoren for den ikke-feilende side den gunstigste score som ville vært rimelig dersom uregelmessigheten ikke hadde skjedd - og for den feilende side den mest ugunstige score som i det hele tatt ville være sannsynlig.</a:t>
            </a:r>
            <a:r>
              <a:rPr b="0" lang="nb-NO" sz="1800" spc="-1" strike="noStrike">
                <a:solidFill>
                  <a:srgbClr val="000000"/>
                </a:solidFill>
                <a:latin typeface="Arial"/>
              </a:rPr>
              <a:t> Scoren som tildeles de to sidene, behøver ikke å balansere hverandre.</a:t>
            </a:r>
            <a:br>
              <a:rPr sz="1800"/>
            </a:br>
            <a:br>
              <a:rPr sz="1800"/>
            </a:br>
            <a:r>
              <a:rPr b="1" lang="nb-NO" sz="1800" spc="-1" strike="noStrike">
                <a:solidFill>
                  <a:srgbClr val="000000"/>
                </a:solidFill>
                <a:latin typeface="Arial"/>
              </a:rPr>
              <a:t>3</a:t>
            </a:r>
            <a:r>
              <a:rPr b="0" lang="nb-NO" sz="1800" spc="-1" strike="noStrike">
                <a:solidFill>
                  <a:srgbClr val="000000"/>
                </a:solidFill>
                <a:latin typeface="Arial"/>
              </a:rPr>
              <a:t>.</a:t>
            </a:r>
            <a:r>
              <a:rPr b="0" lang="nb-NO" sz="1800" spc="-1" strike="noStrike">
                <a:solidFill>
                  <a:srgbClr val="000000"/>
                </a:solidFill>
                <a:latin typeface="Arial"/>
              </a:rPr>
              <a:t>	</a:t>
            </a:r>
            <a:r>
              <a:rPr b="0" lang="nb-NO" sz="1800" spc="-1" strike="noStrike">
                <a:solidFill>
                  <a:srgbClr val="000000"/>
                </a:solidFill>
                <a:latin typeface="Arial"/>
              </a:rPr>
              <a:t>Med mindre de forskjellige soneorganisasjonene i WBF be-stemmer noe annet, kan en appellkomité endre en korrigert score for å oppnå et mer rettferdig result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3. UKORREKT ANTALL KORT</a:t>
            </a:r>
            <a:endParaRPr b="1" i="1" lang="en-US" sz="2800" spc="-1" strike="noStrike">
              <a:solidFill>
                <a:srgbClr val="000000"/>
              </a:solidFill>
              <a:latin typeface="Arial"/>
            </a:endParaRPr>
          </a:p>
        </p:txBody>
      </p:sp>
      <p:sp>
        <p:nvSpPr>
          <p:cNvPr id="6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5000"/>
          </a:bodyPr>
          <a:p>
            <a:pPr marL="27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800" spc="-1" strike="noStrike">
                <a:solidFill>
                  <a:srgbClr val="000000"/>
                </a:solidFill>
                <a:latin typeface="Arial"/>
              </a:rPr>
              <a:t>Når TL finner at én eller flere lommer i mappen har inneholdt et ukorrekt antall kort*, og en spiller med en ukorrekt hånd har avgitt en melding, kan TL dømme at given rettes opp og meldingene fortsetter uten korrigering, og at spillet spilles uten utskifting av spillere. Hvis han ikke dømmer slik, skal TL tildele poeng direkte, og kan også straffe en feilende spiller. Hvis det ikke er avgitt noen slik melding, skjer følgende:</a:t>
            </a:r>
            <a:br>
              <a:rPr sz="1800"/>
            </a:br>
            <a:br>
              <a:rPr sz="1800"/>
            </a:br>
            <a:r>
              <a:rPr b="0" lang="nb-NO" sz="1400" spc="-1" strike="noStrike">
                <a:solidFill>
                  <a:srgbClr val="000000"/>
                </a:solidFill>
                <a:latin typeface="Arial"/>
              </a:rPr>
              <a:t>*Hvis tre hender er korrekte og én hånd er mangelfull, kommer §14 til anvendelse i stedet for §13.</a:t>
            </a:r>
            <a:endParaRPr b="1" lang="en-US" sz="1400" spc="-1" strike="noStrike">
              <a:solidFill>
                <a:srgbClr val="0000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SPILLER HAR SETT EN ANNEN SPILLERS KOR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korrigere avvikelsen som angitt nedenfor, og hvis ingen av spillerne fremdeles ikke har sett noen annen spillers kort, skal TL forlange at mappen blir spilt på normal måte.</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3. UKORREKT ANTALL KORT</a:t>
            </a:r>
            <a:endParaRPr b="1" i="1" lang="en-US" sz="2800" spc="-1" strike="noStrike">
              <a:solidFill>
                <a:srgbClr val="000000"/>
              </a:solidFill>
              <a:latin typeface="Arial"/>
            </a:endParaRPr>
          </a:p>
        </p:txBody>
      </p:sp>
      <p:sp>
        <p:nvSpPr>
          <p:cNvPr id="7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OPPTEGNELSER AV HEND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finnes opptegnelser av hendene, skal turneringslederen fordele kortene i samsvar med opptegnels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ÅDFØRE SEG MED ANDRE SPILL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finnes opptegnelser av hendene, skal turneringslederen korrigere mappen ved å rådføre seg med spillere som har spilt den tidlig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LANGE OMGI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appen er blitt gitt på en ukorrekt måte, skal turneringslederen forlange omgiv (§6).</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3. UKORREKT ANTALL KORT</a:t>
            </a:r>
            <a:endParaRPr b="1" i="1" lang="en-US" sz="2800" spc="-1" strike="noStrike">
              <a:solidFill>
                <a:srgbClr val="000000"/>
              </a:solidFill>
              <a:latin typeface="Arial"/>
            </a:endParaRPr>
          </a:p>
        </p:txBody>
      </p:sp>
      <p:sp>
        <p:nvSpPr>
          <p:cNvPr id="7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SPILLER HAR SETT EN ANNEN SPILLERS KORT</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finner at:</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én eller flere lommer i mappen har inneholdt et ukorrekt antall kort,og:</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tter at mappen er rekonstruert i sin opprinnelige tilstand, viser seg at en spiller har sett ett eller flere kort av en annen spillers hånd,og:</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kommer ti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VESENTLIGE OPPLYSNINGER</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ikke vil forstyrre normal budgivning eller spill, så kan turneringslederen - dersom alle fire spillere er enige i det - tillate at mappen blir spilt og scoret på normal måte.</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3. UKORREKT ANTALL KORT</a:t>
            </a:r>
            <a:endParaRPr b="1" i="1" lang="en-US" sz="2800" spc="-1" strike="noStrike">
              <a:solidFill>
                <a:srgbClr val="000000"/>
              </a:solidFill>
              <a:latin typeface="Arial"/>
            </a:endParaRPr>
          </a:p>
        </p:txBody>
      </p:sp>
      <p:sp>
        <p:nvSpPr>
          <p:cNvPr id="7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er vesentlig nok til å hindre normal budgivning eller spill - eller hvis noen spiller har innvendinger mot å spille mappen - skal turneringslederen fastsette poengene direkte, og TL kan også straffe en feilende spille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man etter at spille er fullført finner at én av spillernes hender opprinnelig hadde mer enn 13 kort og en annen spillers hånd tilsvarende færre, må resultatet annulleres. </a:t>
            </a:r>
            <a:r>
              <a:rPr b="0" i="1" lang="nb-NO" sz="1800" spc="-1" strike="noStrike">
                <a:solidFill>
                  <a:srgbClr val="000000"/>
                </a:solidFill>
                <a:latin typeface="Arial"/>
              </a:rPr>
              <a:t>(Se også §90 om disiplinærstraff.)</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4. MANGLENDE KORT</a:t>
            </a:r>
            <a:endParaRPr b="1" i="1" lang="en-US" sz="2800" spc="-1" strike="noStrike">
              <a:solidFill>
                <a:srgbClr val="000000"/>
              </a:solidFill>
              <a:latin typeface="Arial"/>
            </a:endParaRPr>
          </a:p>
        </p:txBody>
      </p:sp>
      <p:sp>
        <p:nvSpPr>
          <p:cNvPr id="7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FULLSTENDIG HÅND OPPDAGES FØR SPILLET BEGYNN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før spillet begynner oppdager at den fjerde er mangelfull, ettersøker turneringslederen de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blir funnet, blir det satt tilbake i den mangelfulle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ikke kan finnes, rekonstruerer turneringslederen given så nær opptil dens opprinnelige form som mulig, ved å bytte ut den mangelfulle kortstokken med en ny.</a:t>
            </a:r>
            <a:endParaRPr b="1"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4. MANGLENDE KORT</a:t>
            </a:r>
            <a:endParaRPr b="1" i="1" lang="en-US" sz="2800" spc="-1" strike="noStrike">
              <a:solidFill>
                <a:srgbClr val="000000"/>
              </a:solidFill>
              <a:latin typeface="Arial"/>
            </a:endParaRPr>
          </a:p>
        </p:txBody>
      </p:sp>
      <p:sp>
        <p:nvSpPr>
          <p:cNvPr id="7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HÅND OPPDAGET UNDER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under spillet oppdager at den fjerde er mangelfull, ettersøker turneringslederen det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blant de kortene som er spilt, kommer §67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et annet sted, blir de satt tilbake i den mangelfulle hånden og det kan ilegges straff (se 3. nedenfor).</a:t>
            </a: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4. MANGLENDE KORT</a:t>
            </a:r>
            <a:endParaRPr b="1" i="1" lang="en-US" sz="2800" spc="-1" strike="noStrike">
              <a:solidFill>
                <a:srgbClr val="000000"/>
              </a:solidFill>
              <a:latin typeface="Arial"/>
            </a:endParaRPr>
          </a:p>
        </p:txBody>
      </p:sp>
      <p:sp>
        <p:nvSpPr>
          <p:cNvPr id="8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br>
              <a:rPr sz="1800"/>
            </a:br>
            <a:br>
              <a:rPr sz="1800"/>
            </a:br>
            <a:r>
              <a:rPr b="0" lang="nb-NO" sz="1800" spc="-1" strike="noStrike">
                <a:solidFill>
                  <a:srgbClr val="000000"/>
                </a:solidFill>
                <a:latin typeface="Arial"/>
              </a:rPr>
              <a:t>Hvis alle manglende kort ikke blir funnet, blir given rekonstruert så nær den opprinnelige form som mulig ved å bytte ut den mangelfulle kortstokken med en ny, og det kan ilegges straff (se 3. nedenfor).</a:t>
            </a: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ULIG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De kort som settes tilbake i en hånd under de betingelser som er beskrevet i seksjon B av denne paragraf, betraktes som å ha tilhørt den mangelfulle hånden hele tiden. De kan bli straffekort (§50), og unnlatelse av å ha spilt dem kan innebære revoke.</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5. SPILL AV FEIL MAPPE</a:t>
            </a:r>
            <a:endParaRPr b="1" i="1" lang="en-US" sz="2800" spc="-1" strike="noStrike">
              <a:solidFill>
                <a:srgbClr val="000000"/>
              </a:solidFill>
              <a:latin typeface="Arial"/>
            </a:endParaRPr>
          </a:p>
        </p:txBody>
      </p:sp>
      <p:sp>
        <p:nvSpPr>
          <p:cNvPr id="8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RNE HAR IKKE SPILT SPILLET TIDLIG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rne spiller et spill som de ikke skal spille i den aktuelle ru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T SCORES PÅ VAN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ormalt tillater turneringslederen at scoren blir stående dersom ingen av de fire spillerne har spilt spillet tidlig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SETTES OPP ET SPILL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kreve at de to parene spiller det riktige spillet mot hverandre senere.</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 FREMGANGSMÅTEN ETTER EN UREGELMESSIGHET</a:t>
            </a:r>
            <a:endParaRPr b="1" i="1" lang="en-US" sz="2800" spc="-1" strike="noStrike">
              <a:solidFill>
                <a:srgbClr val="000000"/>
              </a:solidFill>
              <a:latin typeface="Arial"/>
            </a:endParaRPr>
          </a:p>
        </p:txBody>
      </p:sp>
      <p:sp>
        <p:nvSpPr>
          <p:cNvPr id="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UREGELMESSIGHET ER PÅTA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SKAL TURNERINGSLEDER TILKA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må tilkalles med en gang når en uregelmessighet er påtal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EM KAN TILKALLE TURNERINGSLEDER?</a:t>
            </a:r>
            <a:br>
              <a:rPr sz="1800"/>
            </a:br>
            <a:r>
              <a:rPr b="0" lang="nb-NO" sz="1800" spc="-1" strike="noStrike">
                <a:solidFill>
                  <a:srgbClr val="000000"/>
                </a:solidFill>
                <a:latin typeface="Arial"/>
              </a:rPr>
              <a:t>Enhver spiller, inkludert blindemann**, kan tilkalle TL etter at en uregelmessighet er påtalt.</a:t>
            </a:r>
            <a:br>
              <a:rPr sz="1800"/>
            </a:br>
            <a:r>
              <a:rPr b="0" lang="nb-NO" sz="1400" spc="-1" strike="noStrike">
                <a:solidFill>
                  <a:srgbClr val="000000"/>
                </a:solidFill>
                <a:latin typeface="Arial"/>
              </a:rPr>
              <a:t>**Blindemann kan ikke påtale en uregelmessighet mens spillet pågår, men han kan tilkalle TL etter at en annen spiller har påtalt en uregelmessighe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RETTIGHETENE BEHOLD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å tilkalle TL mister ikke spilleren noen av de rettigheter han ellers måtte ha.</a:t>
            </a: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5. SPILL AV FEIL MAPPE</a:t>
            </a:r>
            <a:endParaRPr b="1" i="1" lang="en-US" sz="2800" spc="-1" strike="noStrike">
              <a:solidFill>
                <a:srgbClr val="000000"/>
              </a:solidFill>
              <a:latin typeface="Arial"/>
            </a:endParaRPr>
          </a:p>
        </p:txBody>
      </p:sp>
      <p:sp>
        <p:nvSpPr>
          <p:cNvPr id="84"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SPILT SPILLET TIDLIG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spiller et spill som vedkommende har spilt tidligere, enten mot riktige motstandere eller mot andre, blir score nummer to på dette spillet annullert for begge sider. TL skal i så fall fastsette poeng direkte for de deltagerne som på denne måte blir fratatt muligheten til å oppnå en gyldig score.</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5. SPILL AV FEIL MAPPE</a:t>
            </a:r>
            <a:endParaRPr b="1" i="1" lang="en-US" sz="2800" spc="-1" strike="noStrike">
              <a:solidFill>
                <a:srgbClr val="000000"/>
              </a:solidFill>
              <a:latin typeface="Arial"/>
            </a:endParaRPr>
          </a:p>
        </p:txBody>
      </p:sp>
      <p:sp>
        <p:nvSpPr>
          <p:cNvPr id="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EN OPPDAGES UNDER MELDINGS-FORLØPET</a:t>
            </a:r>
            <a:br>
              <a:rPr sz="2400"/>
            </a:br>
            <a:br>
              <a:rPr sz="2400"/>
            </a:br>
            <a:r>
              <a:rPr b="1" lang="nb-NO" sz="1800" spc="-1" strike="noStrike">
                <a:solidFill>
                  <a:srgbClr val="000000"/>
                </a:solidFill>
                <a:latin typeface="Arial"/>
              </a:rPr>
              <a:t>Hvis TL under meldingsforløpet oppdager at noen spiller et spill som vedkommende etter planen ikke skal spille i den aktuelle runde, skal TL annullere meldingsforløpet, forvisse seg om at deltagerne sitter på korrekt plass, og at de er informert om sine rettigheter såvel i den aktuelle som i de påfølgende runder. Et nytt meldingsforløp begynner. Spillerne må gjenta meldingene fra det første meldingsforløpet. Hvis noen melding avviker fra tilsvarende melding i første meldingsforløp, skal TL annullere spillet. Hvis ikke, fortstter spillet på normal måte.</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6. URETTMESSIG INFORMASJON</a:t>
            </a:r>
            <a:endParaRPr b="1" i="1" lang="en-US" sz="2800" spc="-1" strike="noStrike">
              <a:solidFill>
                <a:srgbClr val="000000"/>
              </a:solidFill>
              <a:latin typeface="Arial"/>
            </a:endParaRPr>
          </a:p>
        </p:txBody>
      </p:sp>
      <p:sp>
        <p:nvSpPr>
          <p:cNvPr id="8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har rett til å basere sine handlinger på informasjon fra lovlige meldinger og spill, samt fra spesielle adferdstrekk hos motstanderne. Men å basere sine handlinger på annen, urettmessig informasjon kan være lovbrudd.</a:t>
            </a:r>
            <a:endParaRPr b="1" lang="en-US" sz="1800" spc="-1" strike="noStrike">
              <a:solidFill>
                <a:srgbClr val="0000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RETTMESSIG INFORMASJON FRA MAKK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hender at en spiller gir sin makker urettmessig informasjon som kan antyde en bestemt melding eller et spill. Det kan for eksempel skje ved hjelp av en bemerkning, et spørsmål, svar på et spørsmål, eller ved markert nøling, unormal hastighet, spesielt ettertrykk, tonefall, gester, bevegelser eller andre spesielle adferdstrekk. I slike tilfeller kan makkeren ikke blant logiske alternative handlemåter velge en handlemåte som beviselig er blitt foreslått fremfor en annen ved hjelp av den urettmessige informasjonen.</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6. URETTMESSIG INFORMASJON</a:t>
            </a:r>
            <a:endParaRPr b="1" i="1" lang="en-US" sz="2800" spc="-1" strike="noStrike">
              <a:solidFill>
                <a:srgbClr val="000000"/>
              </a:solidFill>
              <a:latin typeface="Arial"/>
            </a:endParaRPr>
          </a:p>
        </p:txBody>
      </p:sp>
      <p:sp>
        <p:nvSpPr>
          <p:cNvPr id="9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ER GITT URETTMESSIG INFORMASJON</a:t>
            </a:r>
            <a:br>
              <a:rPr sz="1800"/>
            </a:br>
            <a:br>
              <a:rPr sz="1800"/>
            </a:br>
            <a:r>
              <a:rPr b="0" lang="nb-NO" sz="1800" spc="-1" strike="noStrike">
                <a:solidFill>
                  <a:srgbClr val="000000"/>
                </a:solidFill>
                <a:latin typeface="Arial"/>
              </a:rPr>
              <a:t>Hvis en spiller mener at en motstander har gitt sin makker urettmessig informasjon, og at dette muligens kan skade spillerens side, kan han  - med mindre arrangørens bestemmelser forbyr det  - umiddelbart gjøre oppmerksom på at han reserverer seg rett til å tilkalle TL senere. Hvis motstanderne benekter at det kan ha vært formidlet urettmessig informasjon, bør de omgående tilkalle TL.</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6. URETTMESSIG INFORMASJON</a:t>
            </a:r>
            <a:endParaRPr b="1" i="1" lang="en-US" sz="2800" spc="-1" strike="noStrike">
              <a:solidFill>
                <a:srgbClr val="000000"/>
              </a:solidFill>
              <a:latin typeface="Arial"/>
            </a:endParaRPr>
          </a:p>
        </p:txBody>
      </p:sp>
      <p:sp>
        <p:nvSpPr>
          <p:cNvPr id="9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BLIR VALGT ET ULOVLIG ALTERNATIV</a:t>
            </a:r>
            <a:br>
              <a:rPr sz="1800"/>
            </a:br>
            <a:br>
              <a:rPr sz="1800"/>
            </a:br>
            <a:r>
              <a:rPr b="0" lang="nb-NO" sz="1800" spc="-1" strike="noStrike">
                <a:solidFill>
                  <a:srgbClr val="000000"/>
                </a:solidFill>
                <a:latin typeface="Arial"/>
              </a:rPr>
              <a:t>Når en spiller har vektig grunn til å tro* at en motstander som hadde et logisk alternativ, har valgt en handlemåte som kan ha vært antydet ved urettmessig informasjon, bør denne straks tilkalle TL. TL skal forlange at meldingsforløpet og spillet fortsetter, om mulig bli ved bordet, og eventuelt tildele et justert resultat hvis han mener at det har skjedd et lovbrudd som har ført til skade.</a:t>
            </a:r>
            <a:br>
              <a:rPr sz="1800"/>
            </a:br>
            <a:br>
              <a:rPr sz="1800"/>
            </a:br>
            <a:r>
              <a:rPr b="0" lang="nb-NO" sz="1400" spc="-1" strike="noStrike">
                <a:solidFill>
                  <a:srgbClr val="000000"/>
                </a:solidFill>
                <a:latin typeface="Arial"/>
              </a:rPr>
              <a:t>*Når spillet er slutt, eller for blindemanns vedkommende når hånden blir lagt med fremsiden opp.</a:t>
            </a:r>
            <a:endParaRPr b="1"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6. URETTMESSIG INFORMASJON</a:t>
            </a:r>
            <a:endParaRPr b="1" i="1" lang="en-US" sz="2800" spc="-1" strike="noStrike">
              <a:solidFill>
                <a:srgbClr val="000000"/>
              </a:solidFill>
              <a:latin typeface="Arial"/>
            </a:endParaRPr>
          </a:p>
        </p:txBody>
      </p:sp>
      <p:sp>
        <p:nvSpPr>
          <p:cNvPr id="9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RETTMESSIG INFORMASJON FRA ANDRE KILDER</a:t>
            </a:r>
            <a:br>
              <a:rPr sz="2400"/>
            </a:br>
            <a:br>
              <a:rPr sz="2400"/>
            </a:br>
            <a:r>
              <a:rPr b="1" lang="nb-NO" sz="1800" spc="-1" strike="noStrike">
                <a:solidFill>
                  <a:srgbClr val="000000"/>
                </a:solidFill>
                <a:latin typeface="Arial"/>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1"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6. URETTMESSIG INFORMASJON</a:t>
            </a:r>
            <a:endParaRPr b="1" i="1" lang="en-US" sz="2800" spc="-1" strike="noStrike">
              <a:solidFill>
                <a:srgbClr val="000000"/>
              </a:solidFill>
              <a:latin typeface="Arial"/>
            </a:endParaRPr>
          </a:p>
        </p:txBody>
      </p:sp>
      <p:sp>
        <p:nvSpPr>
          <p:cNvPr id="9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RIGERE POSISJONENE RUNDT BORDET</a:t>
            </a:r>
            <a:br>
              <a:rPr sz="1800"/>
            </a:br>
            <a:br>
              <a:rPr sz="1800"/>
            </a:br>
            <a:r>
              <a:rPr b="0" lang="nb-NO" sz="1800" spc="-1" strike="noStrike">
                <a:solidFill>
                  <a:srgbClr val="000000"/>
                </a:solidFill>
                <a:latin typeface="Arial"/>
              </a:rPr>
              <a:t>Hvis turneringsformen og utregningsmåten tillater det, og ingen andre har sett sine kort, kan TL korrigere spillernes posisjoner rundt bordet, slik at en spiller som har informasjon om en bestemt hånd, får denne hånden.</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TPEKE EN INNBYTTER</a:t>
            </a:r>
            <a:br>
              <a:rPr sz="1800"/>
            </a:br>
            <a:br>
              <a:rPr sz="1800"/>
            </a:br>
            <a:r>
              <a:rPr b="0" lang="nb-NO" sz="1800" spc="-1" strike="noStrike">
                <a:solidFill>
                  <a:srgbClr val="000000"/>
                </a:solidFill>
                <a:latin typeface="Arial"/>
              </a:rPr>
              <a:t>Hvis alle spillere er enige i det, kan TL utpeke en midlertidig innbytter for å erstatte den spilleren som mottok den urettmessige informasjon.</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ASTSETTE POENG DIREKTE</a:t>
            </a:r>
            <a:br>
              <a:rPr sz="1800"/>
            </a:br>
            <a:br>
              <a:rPr sz="1800"/>
            </a:br>
            <a:r>
              <a:rPr b="0" lang="nb-NO" sz="1800" spc="-1" strike="noStrike">
                <a:solidFill>
                  <a:srgbClr val="000000"/>
                </a:solidFill>
                <a:latin typeface="Arial"/>
              </a:rPr>
              <a:t>TL kan straks fastsette poeng direkte.</a:t>
            </a:r>
            <a:endParaRPr b="1"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6. URETTMESSIG INFORMASJON</a:t>
            </a:r>
            <a:endParaRPr b="1" i="1" lang="en-US" sz="2800" spc="-1" strike="noStrike">
              <a:solidFill>
                <a:srgbClr val="000000"/>
              </a:solidFill>
              <a:latin typeface="Arial"/>
            </a:endParaRPr>
          </a:p>
        </p:txBody>
      </p:sp>
      <p:sp>
        <p:nvSpPr>
          <p:cNvPr id="9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INFORMASJON FRA MELDINGER OG SPILL SOM BLIR TRUKKET TILBAKE</a:t>
            </a:r>
            <a:endParaRPr b="1" lang="en-US" sz="24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nb-NO" sz="1800" spc="-1" strike="noStrike">
                <a:solidFill>
                  <a:srgbClr val="000000"/>
                </a:solidFill>
                <a:latin typeface="Arial"/>
              </a:rPr>
              <a:t>En melding eller et spill kan bli trukket tilbake og erstattet med en annen melding eller spill - enten av en ikke-feilende side etter at en motstander har begått et lovbrudd, eller av en feilende side for å korrigere et lovbrudd.</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IKKE-FEILENDE SIDE</a:t>
            </a:r>
            <a:endParaRPr b="1" lang="en-US" sz="1800" spc="-1" strike="noStrike">
              <a:solidFill>
                <a:srgbClr val="000000"/>
              </a:solidFill>
              <a:latin typeface="Arial"/>
            </a:endParaRPr>
          </a:p>
          <a:p>
            <a:pPr marL="2858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800" spc="-1" strike="noStrike">
                <a:solidFill>
                  <a:srgbClr val="000000"/>
                </a:solidFill>
                <a:latin typeface="Arial"/>
              </a:rPr>
              <a:t>All informasjon som oppstår ved at en melding, et utspill eller et påspill blir trukket tilbake, er lovlig for den ikke-feilende side, uansett om det er deres egen eller motstandernes handling.</a:t>
            </a:r>
            <a:endParaRPr b="1"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6. URETTMESSIG INFORMASJON</a:t>
            </a:r>
            <a:endParaRPr b="1" i="1" lang="en-US" sz="2800" spc="-1" strike="noStrike">
              <a:solidFill>
                <a:srgbClr val="000000"/>
              </a:solidFill>
              <a:latin typeface="Arial"/>
            </a:endParaRPr>
          </a:p>
        </p:txBody>
      </p:sp>
      <p:sp>
        <p:nvSpPr>
          <p:cNvPr id="10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1" lang="nb-NO" sz="1800" spc="-1" strike="noStrike">
                <a:solidFill>
                  <a:srgbClr val="000000"/>
                </a:solidFill>
                <a:latin typeface="Arial"/>
              </a:rPr>
              <a:t>beviselig</a:t>
            </a:r>
            <a:r>
              <a:rPr b="0" lang="nb-NO" sz="1800" spc="-1" strike="noStrike">
                <a:solidFill>
                  <a:srgbClr val="000000"/>
                </a:solidFill>
                <a:latin typeface="Arial"/>
              </a:rPr>
              <a:t> kunne fremstå som mer gunstig enn et annet.</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9. FREMGANGSMÅTEN ETTER EN UREGELMESSIGHET</a:t>
            </a:r>
            <a:endParaRPr b="1" i="1" lang="en-US" sz="2800" spc="-1" strike="noStrike">
              <a:solidFill>
                <a:srgbClr val="000000"/>
              </a:solidFill>
              <a:latin typeface="Arial"/>
            </a:endParaRPr>
          </a:p>
        </p:txBody>
      </p:sp>
      <p:sp>
        <p:nvSpPr>
          <p:cNvPr id="5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a:t>
            </a:r>
            <a:r>
              <a:rPr b="0" lang="nb-NO" sz="1800" spc="-1" strike="noStrike">
                <a:solidFill>
                  <a:srgbClr val="000000"/>
                </a:solidFill>
                <a:latin typeface="Arial"/>
              </a:rPr>
              <a:t>	</a:t>
            </a:r>
            <a:r>
              <a:rPr b="0" lang="nb-NO" sz="1800" spc="-1" strike="noStrike">
                <a:solidFill>
                  <a:srgbClr val="000000"/>
                </a:solidFill>
                <a:latin typeface="Arial"/>
              </a:rPr>
              <a:t>MOTSTANDERNES RETT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en spiller påtaler en uregelmessighet som er begått av egen side, påvirker ikke dette motstandernes rett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IDERE MELDINGER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gen spiller skal foreta seg noe før turneringslederen har forklart alt som har med korrigering og med ileggelse av straff å gjøre.</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UREGELMESSIGHET KORRIGERES I UTI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feilende spiller korrigerer en uregelmessighet i utide, kan det påføre spilleren ytterligere straff (se §26 om utspillsbegrensninger).</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0. TILDELING AV STRAFF</a:t>
            </a:r>
            <a:endParaRPr b="1" i="1" lang="en-US" sz="2800" spc="-1" strike="noStrike">
              <a:solidFill>
                <a:srgbClr val="000000"/>
              </a:solidFill>
              <a:latin typeface="Arial"/>
            </a:endParaRPr>
          </a:p>
        </p:txBody>
      </p:sp>
      <p:sp>
        <p:nvSpPr>
          <p:cNvPr id="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TILDELE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utelukkende turneringslederen som har rett til å tildele straff når straff kan tildeles. Spillerne har ikke rett til å tildele (eller gi avkall på) straff på eget initiativ.</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STRAFF ELLER AVKALL PÅ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godkjenne eller oppheve enhver tildeling av straff eller avkall på straff som spillerne har foretatt uten å være instruert av TL.</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0. TILDELING AV STRAFF</a:t>
            </a:r>
            <a:endParaRPr b="1" i="1" lang="en-US" sz="2800" spc="-1" strike="noStrike">
              <a:solidFill>
                <a:srgbClr val="000000"/>
              </a:solidFill>
              <a:latin typeface="Arial"/>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VALGMULIGHETER ETTER UREGELMESS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ORKLARING AV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en valgmulighet etter at en uregelmessighet er skjedd, skal turneringslederen forklare alle valgmuligheter som står til råd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ALG MELLOM FLERE 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har flere valgmuligheter etter at det er skjedd en uregelmessighet, må spilleren gjøre sitt valg uten å rådføre seg med sin makker.</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1. FORSPILLELSE AV RETTEN TIL STRAFF</a:t>
            </a:r>
            <a:endParaRPr b="1" i="1" lang="en-US" sz="2800" spc="-1" strike="noStrike">
              <a:solidFill>
                <a:srgbClr val="000000"/>
              </a:solidFill>
              <a:latin typeface="Arial"/>
            </a:endParaRPr>
          </a:p>
        </p:txBody>
      </p:sp>
      <p:sp>
        <p:nvSpPr>
          <p:cNvPr id="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VED TILTAK AV DEN IKKE-FEILENDE SI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tten til å få ilagt straff for en uregelmessighet kan forspilles hvis en av spillerne på den ikke-feilende side gjør noe som helst før turneringslederen er tilkalt. TL skal dømme at retten til straff er forspilt når den ikke-feilende side kan ha fått en gevinst ved noe motstanderne senere har gjort i uvitenhet om straffen.</a:t>
            </a:r>
            <a:endParaRPr b="1" lang="en-US" sz="18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UREGELMESSIGHETEN BLIR PÅTALT AV EN TILSKU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IKKE-FEILENDE SI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få ilagt straff for en uregelmessighet kan forspilles hvis uregelmessigheten først blir påtalt av en tilskuer hvis nærvær ved bordet er det ikke-feilende sides ansvar.</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1. FORSPILLELSE AV RETTEN TIL STRAFF</a:t>
            </a:r>
            <a:endParaRPr b="1" i="1" lang="en-US" sz="2800" spc="-1" strike="noStrike">
              <a:solidFill>
                <a:srgbClr val="000000"/>
              </a:solidFill>
              <a:latin typeface="Arial"/>
            </a:endParaRPr>
          </a:p>
        </p:txBody>
      </p:sp>
      <p:sp>
        <p:nvSpPr>
          <p:cNvPr id="5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korrigere en uregelmessighet kan forspilles hvis uregelmessigheten først blir påtalt av en tilskuer hvis nærvær ved bordet er den feilende sides ansva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TRAFF ETTER AT RETTEN TIL STRAFF ER FORSPI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gså etter at retten til å få ilagt straff er forspilt ifølge loven, kan turneringslederen tildele en straff i form av disiplinærstraff (se §9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2. TURNERINGSLEDERENS MYNDIGHET TIL Å ANVENDE SKJØNN</a:t>
            </a:r>
            <a:endParaRPr b="1" i="1" lang="en-US" sz="2800" spc="-1" strike="noStrike">
              <a:solidFill>
                <a:srgbClr val="000000"/>
              </a:solidFill>
              <a:latin typeface="Arial"/>
            </a:endParaRPr>
          </a:p>
        </p:txBody>
      </p:sp>
      <p:sp>
        <p:nvSpPr>
          <p:cNvPr id="6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89000"/>
          </a:bodyPr>
          <a:p>
            <a:pPr marL="254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FASTSETTE ET JUSTERT RESULTAT</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fastsette et justert resultat (korrigert score eller fastsette poeng direkte), enten på eget initiativ eller på anmodning av en spiller, men bare når loven gir ham myndighet til det - eller:</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LOVENE IKKE HAR FASTSATT NOEN ERSTATNING</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korrigert resultat når denne finner at lovene ikke har fastsatt noen erstatning til den ikke-feilende deltager for et gitt lovbrudd begått av en motstander.</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UMULIG Å SPILLE MAPPEN PÅ NORMAL MÅTE</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poeng direkte hvis det ikke er mulig å foreta noen korrigering som kan føre til normalt spill av mappen (se §88).</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2. TURNERINGSLEDERENS MYNDIGHET TIL Å ANVENDE SKJØNN</a:t>
            </a:r>
            <a:endParaRPr b="1" i="1" lang="en-US" sz="2800" spc="-1" strike="noStrike">
              <a:solidFill>
                <a:srgbClr val="000000"/>
              </a:solidFill>
              <a:latin typeface="Arial"/>
            </a:endParaRPr>
          </a:p>
        </p:txBody>
      </p:sp>
      <p:sp>
        <p:nvSpPr>
          <p:cNvPr id="6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SONET EN UKORREK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justert resultat hvis det er sonet en ukorrekt straff.</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KORRIGERING VED URIMELIG STRENG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ikke fastsette et justert resultat med den begrunnelse at straffen som er fastsatt i lovene, enten er urimelig streng eller fordelaktig for den ene eller andre siden.</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9:38:15Z</dcterms:created>
  <dc:creator>Kirsten Rognstad</dc:creator>
  <dc:description/>
  <dc:language>en-US</dc:language>
  <cp:lastModifiedBy>Per Nordland</cp:lastModifiedBy>
  <dcterms:modified xsi:type="dcterms:W3CDTF">2001-01-27T16:57:34Z</dcterms:modified>
  <cp:revision>5</cp:revision>
  <dc:subject/>
  <dc:title>§9. FREMGANGSMÅTEN ETTER EN UREGELMESSIGHET</dc:title>
</cp:coreProperties>
</file>