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972-C3AB-4F4B-A3C2-757F3121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116-27A2-4198-8ACA-34884A50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245-ACC2-4AE7-8125-8E747FE6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AD4-4D21-4DD3-9EFC-BA05C5CD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456-D0C3-45D9-980F-570FE398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EA9-7274-4E07-A599-F051DC9A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8C6-4AB3-4DE7-AEE6-B42C1998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346-DACE-4BBF-833A-D9B4914E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0B7-FFB6-472C-87CD-18D8499F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EA5-B11D-4A39-818F-1EC102B6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E34-F516-4843-A37F-C2B17A57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0A0-6870-467D-A6E3-43CAF9D0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2486-748E-4CD8-A808-02407D4083A8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8291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5:29:55Z</dcterms:created>
  <dc:creator>Laval Dubreuil</dc:creator>
  <dc:description/>
  <dc:language>en-US</dc:language>
  <cp:lastModifiedBy>Per Nordland</cp:lastModifiedBy>
  <dcterms:modified xsi:type="dcterms:W3CDTF">2002-07-14T21:50:26Z</dcterms:modified>
  <cp:revision>3</cp:revision>
  <dc:subject/>
  <dc:title>Présentation PowerPoint</dc:title>
</cp:coreProperties>
</file>